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2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98BA59A-47A8-46B9-A0F4-8BEE8EBFA7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500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1960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70258-6FC2-465F-80AB-B78E2F51AD6B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Text Box 1"/>
          <p:cNvSpPr/>
          <p:nvPr/>
        </p:nvSpPr>
        <p:spPr>
          <a:xfrm>
            <a:off x="905040" y="749160"/>
            <a:ext cx="49370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1960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B269C-7651-4DA6-AA30-4C70A4849555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1960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D45DC-670D-4A38-BF69-C457E0B74C0F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1960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E43DF-DFEE-4E4A-9E4D-77F4E918A9C9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62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76212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</a:t>
            </a:r>
            <a:r>
              <a:rPr b="1" lang="et-EE" sz="1000" spc="-1" strike="noStrike">
                <a:solidFill>
                  <a:srgbClr val="6666ff"/>
                </a:solidFill>
                <a:latin typeface="Bitstream Vera Sans"/>
              </a:rPr>
              <a:t>8</a:t>
            </a: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      T.Tammet     IT sissejuhatus loeng 10      lk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150A1BA4-95F0-4DFB-A4B9-08BCC8F35BF2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Line 2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nn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ibm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914400" y="299880"/>
            <a:ext cx="7770600" cy="309600"/>
            <a:chOff x="914400" y="299880"/>
            <a:chExt cx="7770600" cy="309600"/>
          </a:xfrm>
        </p:grpSpPr>
        <p:sp>
          <p:nvSpPr>
            <p:cNvPr id="52" name="Line 4"/>
            <p:cNvSpPr/>
            <p:nvPr/>
          </p:nvSpPr>
          <p:spPr>
            <a:xfrm>
              <a:off x="914400" y="60480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5"/>
            <p:cNvSpPr/>
            <p:nvPr/>
          </p:nvSpPr>
          <p:spPr>
            <a:xfrm flipV="1">
              <a:off x="8683920" y="29988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Simple rout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8400" y="1071360"/>
            <a:ext cx="8227800" cy="45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Ordinary PC with at least two ethernet card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571840" y="1928880"/>
            <a:ext cx="3076560" cy="3076560"/>
          </a:xfrm>
          <a:prstGeom prst="rect">
            <a:avLst/>
          </a:prstGeom>
          <a:ln w="0">
            <a:noFill/>
          </a:ln>
        </p:spPr>
      </p:pic>
      <p:cxnSp>
        <p:nvCxnSpPr>
          <p:cNvPr id="147" name="Straight Arrow Connector 6"/>
          <p:cNvCxnSpPr/>
          <p:nvPr/>
        </p:nvCxnSpPr>
        <p:spPr>
          <a:xfrm>
            <a:off x="4928760" y="4357800"/>
            <a:ext cx="178668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8" name="Straight Arrow Connector 8"/>
          <p:cNvCxnSpPr/>
          <p:nvPr/>
        </p:nvCxnSpPr>
        <p:spPr>
          <a:xfrm>
            <a:off x="1357200" y="4357800"/>
            <a:ext cx="185832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678672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7786800" y="364320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4"/>
          <a:stretch/>
        </p:blipFill>
        <p:spPr>
          <a:xfrm>
            <a:off x="6858000" y="48578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5"/>
          <a:stretch/>
        </p:blipFill>
        <p:spPr>
          <a:xfrm>
            <a:off x="6715080" y="3786120"/>
            <a:ext cx="928800" cy="92880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15"/>
          <p:cNvCxnSpPr/>
          <p:nvPr/>
        </p:nvCxnSpPr>
        <p:spPr>
          <a:xfrm flipH="1">
            <a:off x="7143480" y="3644640"/>
            <a:ext cx="2160" cy="5007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4" name="Straight Arrow Connector 17"/>
          <p:cNvCxnSpPr/>
          <p:nvPr/>
        </p:nvCxnSpPr>
        <p:spPr>
          <a:xfrm flipH="1" flipV="1">
            <a:off x="7643520" y="4357440"/>
            <a:ext cx="35784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5" name="Straight Arrow Connector 20"/>
          <p:cNvCxnSpPr/>
          <p:nvPr/>
        </p:nvCxnSpPr>
        <p:spPr>
          <a:xfrm flipH="1" flipV="1">
            <a:off x="7286400" y="4500360"/>
            <a:ext cx="110160" cy="357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pic>
        <p:nvPicPr>
          <p:cNvPr id="156" name="Picture 4" descr=""/>
          <p:cNvPicPr/>
          <p:nvPr/>
        </p:nvPicPr>
        <p:blipFill>
          <a:blip r:embed="rId6"/>
          <a:stretch/>
        </p:blipFill>
        <p:spPr>
          <a:xfrm>
            <a:off x="428760" y="39290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7"/>
          <a:stretch/>
        </p:blipFill>
        <p:spPr>
          <a:xfrm>
            <a:off x="42876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8"/>
          <a:stretch/>
        </p:blipFill>
        <p:spPr>
          <a:xfrm>
            <a:off x="85716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9"/>
          <a:stretch/>
        </p:blipFill>
        <p:spPr>
          <a:xfrm>
            <a:off x="1500120" y="3071880"/>
            <a:ext cx="107640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60" name="Straight Arrow Connector 26"/>
          <p:cNvCxnSpPr/>
          <p:nvPr/>
        </p:nvCxnSpPr>
        <p:spPr>
          <a:xfrm flipH="1" flipV="1">
            <a:off x="1071360" y="4571640"/>
            <a:ext cx="110160" cy="357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1" name="Straight Arrow Connector 27"/>
          <p:cNvCxnSpPr/>
          <p:nvPr/>
        </p:nvCxnSpPr>
        <p:spPr>
          <a:xfrm flipV="1">
            <a:off x="925920" y="3644280"/>
            <a:ext cx="2520" cy="5720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2" name="Straight Arrow Connector 29"/>
          <p:cNvCxnSpPr/>
          <p:nvPr/>
        </p:nvCxnSpPr>
        <p:spPr>
          <a:xfrm flipV="1">
            <a:off x="1213200" y="3785400"/>
            <a:ext cx="429480" cy="5007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sp>
        <p:nvSpPr>
          <p:cNvPr id="163" name="TextBox 31"/>
          <p:cNvSpPr/>
          <p:nvPr/>
        </p:nvSpPr>
        <p:spPr>
          <a:xfrm>
            <a:off x="2214720" y="5214960"/>
            <a:ext cx="44733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itstream Vera Sans"/>
              </a:rPr>
              <a:t>Send IP packets from one ethernet 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itstream Vera Sans"/>
              </a:rPr>
              <a:t>to another (if necess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Another ordinary case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0040" y="11430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643120" y="2000160"/>
            <a:ext cx="3076560" cy="3076560"/>
          </a:xfrm>
          <a:prstGeom prst="rect">
            <a:avLst/>
          </a:prstGeom>
          <a:ln w="0">
            <a:noFill/>
          </a:ln>
        </p:spPr>
      </p:pic>
      <p:cxnSp>
        <p:nvCxnSpPr>
          <p:cNvPr id="167" name="Straight Arrow Connector 6"/>
          <p:cNvCxnSpPr/>
          <p:nvPr/>
        </p:nvCxnSpPr>
        <p:spPr>
          <a:xfrm>
            <a:off x="5000400" y="4428720"/>
            <a:ext cx="1786680" cy="2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Straight Arrow Connector 8"/>
          <p:cNvCxnSpPr/>
          <p:nvPr/>
        </p:nvCxnSpPr>
        <p:spPr>
          <a:xfrm>
            <a:off x="1428480" y="4428720"/>
            <a:ext cx="1857960" cy="2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685800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7858080" y="37148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4"/>
          <a:stretch/>
        </p:blipFill>
        <p:spPr>
          <a:xfrm>
            <a:off x="692928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5"/>
          <a:stretch/>
        </p:blipFill>
        <p:spPr>
          <a:xfrm>
            <a:off x="6786720" y="385776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73" name="Straight Arrow Connector 15"/>
          <p:cNvCxnSpPr/>
          <p:nvPr/>
        </p:nvCxnSpPr>
        <p:spPr>
          <a:xfrm flipH="1">
            <a:off x="7214400" y="3715920"/>
            <a:ext cx="2520" cy="5007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Straight Arrow Connector 17"/>
          <p:cNvCxnSpPr/>
          <p:nvPr/>
        </p:nvCxnSpPr>
        <p:spPr>
          <a:xfrm flipH="1" flipV="1">
            <a:off x="7714800" y="4428360"/>
            <a:ext cx="357840" cy="2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5" name="Straight Arrow Connector 20"/>
          <p:cNvCxnSpPr/>
          <p:nvPr/>
        </p:nvCxnSpPr>
        <p:spPr>
          <a:xfrm flipH="1" flipV="1">
            <a:off x="7357680" y="4571640"/>
            <a:ext cx="110160" cy="357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pic>
        <p:nvPicPr>
          <p:cNvPr id="176" name="Picture 4" descr=""/>
          <p:cNvPicPr/>
          <p:nvPr/>
        </p:nvPicPr>
        <p:blipFill>
          <a:blip r:embed="rId6"/>
          <a:stretch/>
        </p:blipFill>
        <p:spPr>
          <a:xfrm>
            <a:off x="500040" y="400068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7"/>
          <a:stretch/>
        </p:blipFill>
        <p:spPr>
          <a:xfrm>
            <a:off x="50004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8"/>
          <a:stretch/>
        </p:blipFill>
        <p:spPr>
          <a:xfrm>
            <a:off x="928800" y="5000760"/>
            <a:ext cx="1076040" cy="1076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9"/>
          <a:stretch/>
        </p:blipFill>
        <p:spPr>
          <a:xfrm>
            <a:off x="1571760" y="3143160"/>
            <a:ext cx="107604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80" name="Straight Arrow Connector 26"/>
          <p:cNvCxnSpPr/>
          <p:nvPr/>
        </p:nvCxnSpPr>
        <p:spPr>
          <a:xfrm flipH="1" flipV="1">
            <a:off x="1142640" y="4642560"/>
            <a:ext cx="110160" cy="35820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1" name="Straight Arrow Connector 27"/>
          <p:cNvCxnSpPr/>
          <p:nvPr/>
        </p:nvCxnSpPr>
        <p:spPr>
          <a:xfrm flipV="1">
            <a:off x="998640" y="3715920"/>
            <a:ext cx="2160" cy="57240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2" name="Straight Arrow Connector 29"/>
          <p:cNvCxnSpPr/>
          <p:nvPr/>
        </p:nvCxnSpPr>
        <p:spPr>
          <a:xfrm flipV="1">
            <a:off x="1284840" y="3857040"/>
            <a:ext cx="429480" cy="5007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sp>
        <p:nvSpPr>
          <p:cNvPr id="183" name="TextBox 31"/>
          <p:cNvSpPr/>
          <p:nvPr/>
        </p:nvSpPr>
        <p:spPr>
          <a:xfrm>
            <a:off x="2286000" y="5286240"/>
            <a:ext cx="4473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itstream Vera Sans"/>
              </a:rPr>
              <a:t>Send unknown IP-address packets to a higher-level router via another ethernet c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Straight Arrow Connector 21"/>
          <p:cNvCxnSpPr/>
          <p:nvPr/>
        </p:nvCxnSpPr>
        <p:spPr>
          <a:xfrm flipV="1">
            <a:off x="4928760" y="1356840"/>
            <a:ext cx="1358280" cy="10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185" name="Picture 4" descr=""/>
          <p:cNvPicPr/>
          <p:nvPr/>
        </p:nvPicPr>
        <p:blipFill>
          <a:blip r:embed="rId10"/>
          <a:stretch/>
        </p:blipFill>
        <p:spPr>
          <a:xfrm>
            <a:off x="6286680" y="92880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86" name="Straight Arrow Connector 32"/>
          <p:cNvCxnSpPr/>
          <p:nvPr/>
        </p:nvCxnSpPr>
        <p:spPr>
          <a:xfrm flipH="1">
            <a:off x="7071480" y="1071720"/>
            <a:ext cx="429480" cy="14328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7" name="Straight Arrow Connector 34"/>
          <p:cNvCxnSpPr/>
          <p:nvPr/>
        </p:nvCxnSpPr>
        <p:spPr>
          <a:xfrm flipH="1" flipV="1">
            <a:off x="7214400" y="1571400"/>
            <a:ext cx="429480" cy="7200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8" name="Straight Arrow Connector 36"/>
          <p:cNvCxnSpPr/>
          <p:nvPr/>
        </p:nvCxnSpPr>
        <p:spPr>
          <a:xfrm flipH="1">
            <a:off x="7214400" y="1213200"/>
            <a:ext cx="429480" cy="1436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Large specialised router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4000680" y="2714760"/>
            <a:ext cx="4340160" cy="3471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1071720" y="2286000"/>
            <a:ext cx="2850840" cy="36432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181440" y="1500120"/>
            <a:ext cx="8343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itstream Vera Sans"/>
              </a:rPr>
              <a:t>A lot of ethernet plugs  and very fast op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int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196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199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203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207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211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215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219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223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227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231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59"/>
          <p:cNvSpPr/>
          <p:nvPr/>
        </p:nvSpPr>
        <p:spPr>
          <a:xfrm flipV="1">
            <a:off x="6172200" y="1517760"/>
            <a:ext cx="1143000" cy="24120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60"/>
          <p:cNvSpPr/>
          <p:nvPr/>
        </p:nvSpPr>
        <p:spPr>
          <a:xfrm>
            <a:off x="7086600" y="1523880"/>
            <a:ext cx="205740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ine ar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ti on 4 baiti. IP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takse enamasti “inimloetavalt” nii (näide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61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63"/>
          <p:cNvSpPr/>
          <p:nvPr/>
        </p:nvSpPr>
        <p:spPr>
          <a:xfrm>
            <a:off x="457200" y="1295280"/>
            <a:ext cx="2209680" cy="67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 küljes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võrgus ole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suunab saadud teksti õiges suunas. Kuida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n “routing tab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, vaad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64"/>
          <p:cNvSpPr/>
          <p:nvPr/>
        </p:nvSpPr>
        <p:spPr>
          <a:xfrm flipV="1">
            <a:off x="3657600" y="3422160"/>
            <a:ext cx="9144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65"/>
          <p:cNvSpPr/>
          <p:nvPr/>
        </p:nvSpPr>
        <p:spPr>
          <a:xfrm flipV="1">
            <a:off x="4800600" y="2889000"/>
            <a:ext cx="304920" cy="3934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6"/>
          <p:cNvSpPr/>
          <p:nvPr/>
        </p:nvSpPr>
        <p:spPr>
          <a:xfrm flipV="1">
            <a:off x="5334120" y="1974960"/>
            <a:ext cx="45720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Group 67"/>
          <p:cNvGrpSpPr/>
          <p:nvPr/>
        </p:nvGrpSpPr>
        <p:grpSpPr>
          <a:xfrm>
            <a:off x="2438280" y="5562720"/>
            <a:ext cx="4646880" cy="677880"/>
            <a:chOff x="2438280" y="5562720"/>
            <a:chExt cx="4646880" cy="677880"/>
          </a:xfrm>
        </p:grpSpPr>
        <p:sp>
          <p:nvSpPr>
            <p:cNvPr id="260" name="AutoShape 68"/>
            <p:cNvSpPr/>
            <p:nvPr/>
          </p:nvSpPr>
          <p:spPr>
            <a:xfrm>
              <a:off x="2438280" y="5562720"/>
              <a:ext cx="4646880" cy="677880"/>
            </a:xfrm>
            <a:prstGeom prst="roundRect">
              <a:avLst>
                <a:gd name="adj" fmla="val 231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69"/>
            <p:cNvSpPr/>
            <p:nvPr/>
          </p:nvSpPr>
          <p:spPr>
            <a:xfrm>
              <a:off x="2438280" y="5562720"/>
              <a:ext cx="464688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i (IP) kasutamise põhi-ide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64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adres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ga saadetava tekstijupiga pannakse kaasa selle masina aadress, kuhu tekst saata tuleb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on analoogiline hariliku ümbrikuga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 on ümbriku see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mbriku peal on saaja aadress (ja tagaküljel ka saatja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baiti IP aadressis on nagu aadressi-read: maja, tänav, linn, rii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-arvutid on nagu postkontorid ja sorteerimispunk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did on nagu veomasinad, mis posti kontorite vahel veav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et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harilikku ümbrikku aga ei mahu terve entsoklüpeedia kümme köidet! Mida teha? Paneme eraldi köited eri ümbrikutesse ja saadame kümme ümbrikk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ka internet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kad tekstid lõhutakse väiksemateks juppideks (nn pakettideks)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ketid saadetakse eraldi, igalühel aadress pea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itstream Ver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265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9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270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273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277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281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285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289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293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297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301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305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61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tahab saata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M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62"/>
          <p:cNvSpPr/>
          <p:nvPr/>
        </p:nvSpPr>
        <p:spPr>
          <a:xfrm flipV="1">
            <a:off x="3657600" y="3422160"/>
            <a:ext cx="9144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339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342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346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350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354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358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362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366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370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374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61"/>
          <p:cNvSpPr/>
          <p:nvPr/>
        </p:nvSpPr>
        <p:spPr>
          <a:xfrm>
            <a:off x="304920" y="1219320"/>
            <a:ext cx="2209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E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Line 62"/>
          <p:cNvSpPr/>
          <p:nvPr/>
        </p:nvSpPr>
        <p:spPr>
          <a:xfrm flipV="1">
            <a:off x="5105520" y="3041640"/>
            <a:ext cx="30456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408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411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415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419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423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427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431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435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439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2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443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61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(ilmselt!) masina X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Line 62"/>
          <p:cNvSpPr/>
          <p:nvPr/>
        </p:nvSpPr>
        <p:spPr>
          <a:xfrm flipV="1">
            <a:off x="5410080" y="2050560"/>
            <a:ext cx="381240" cy="2415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kaduma mi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6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477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480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484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488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1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492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496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500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3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504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7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508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1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512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61"/>
          <p:cNvSpPr/>
          <p:nvPr/>
        </p:nvSpPr>
        <p:spPr>
          <a:xfrm>
            <a:off x="304920" y="1219320"/>
            <a:ext cx="220968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e läheb masinani E, 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E crashib (läheb katki, programm läheb segamini, vool läheb ära vm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 alusprotokoll: IP ise ei kontrolli, kas te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õudis päral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62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69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crash!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70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6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547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550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3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554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7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558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562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5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566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570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574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7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578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582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5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61"/>
          <p:cNvSpPr/>
          <p:nvPr/>
        </p:nvSpPr>
        <p:spPr>
          <a:xfrm>
            <a:off x="304920" y="1219320"/>
            <a:ext cx="23446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 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õhub pika  teksti kaheks paketik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h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 E-&gt;X, 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E-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ühendus rikk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leiab, et saab saata teate tei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X-ile 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 L kaud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62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Line 70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71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AutoShape 72"/>
          <p:cNvSpPr/>
          <p:nvPr/>
        </p:nvSpPr>
        <p:spPr>
          <a:xfrm>
            <a:off x="7364160" y="2631960"/>
            <a:ext cx="15836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funktsion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võrgunduse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interneti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asmehhanismi, IP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CP ja UDP: kaks täiendavat protokolli IP-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kihilisest protokollindusest: ISO/OSI mud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side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NS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id brauseriga ja telneti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57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8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619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1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622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5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626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630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634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638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1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642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5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646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9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650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3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654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61"/>
          <p:cNvSpPr/>
          <p:nvPr/>
        </p:nvSpPr>
        <p:spPr>
          <a:xfrm>
            <a:off x="304920" y="1219320"/>
            <a:ext cx="220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ki te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L, k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nab selle masinasse X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eksti o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kusid eri teid pidi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Line 62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Line 70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Line 71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AutoShape 72"/>
          <p:cNvSpPr/>
          <p:nvPr/>
        </p:nvSpPr>
        <p:spPr>
          <a:xfrm>
            <a:off x="7360560" y="2631960"/>
            <a:ext cx="1946160" cy="15130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73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Line 74"/>
          <p:cNvSpPr/>
          <p:nvPr/>
        </p:nvSpPr>
        <p:spPr>
          <a:xfrm flipH="1" flipV="1">
            <a:off x="6318360" y="2203200"/>
            <a:ext cx="241200" cy="1307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1760" y="-131760"/>
            <a:ext cx="814068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693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5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696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9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700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3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704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7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708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1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712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5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716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9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720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724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7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728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1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61"/>
          <p:cNvSpPr/>
          <p:nvPr/>
        </p:nvSpPr>
        <p:spPr>
          <a:xfrm>
            <a:off x="304920" y="1219320"/>
            <a:ext cx="22096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saad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uue teat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 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sinale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 esime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bi masina 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Line 62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Line 70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Line 71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AutoShape 72"/>
          <p:cNvSpPr/>
          <p:nvPr/>
        </p:nvSpPr>
        <p:spPr>
          <a:xfrm>
            <a:off x="7363440" y="2631960"/>
            <a:ext cx="15242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kk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73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Line 74"/>
          <p:cNvSpPr/>
          <p:nvPr/>
        </p:nvSpPr>
        <p:spPr>
          <a:xfrm flipH="1" flipV="1">
            <a:off x="6318360" y="2203200"/>
            <a:ext cx="241200" cy="1307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66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767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9" name="Group 6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770" name="Freeform 7"/>
            <p:cNvSpPr/>
            <p:nvPr/>
          </p:nvSpPr>
          <p:spPr>
            <a:xfrm>
              <a:off x="5181480" y="2514600"/>
              <a:ext cx="298440" cy="3031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Freeform 8"/>
            <p:cNvSpPr/>
            <p:nvPr/>
          </p:nvSpPr>
          <p:spPr>
            <a:xfrm>
              <a:off x="5181480" y="2514600"/>
              <a:ext cx="298440" cy="738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Freeform 9"/>
            <p:cNvSpPr/>
            <p:nvPr/>
          </p:nvSpPr>
          <p:spPr>
            <a:xfrm>
              <a:off x="5405760" y="2514600"/>
              <a:ext cx="73800" cy="30312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3" name="Group 10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774" name="Freeform 11"/>
            <p:cNvSpPr/>
            <p:nvPr/>
          </p:nvSpPr>
          <p:spPr>
            <a:xfrm>
              <a:off x="3200400" y="3581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Freeform 12"/>
            <p:cNvSpPr/>
            <p:nvPr/>
          </p:nvSpPr>
          <p:spPr>
            <a:xfrm>
              <a:off x="3200400" y="3581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Freeform 13"/>
            <p:cNvSpPr/>
            <p:nvPr/>
          </p:nvSpPr>
          <p:spPr>
            <a:xfrm>
              <a:off x="3424320" y="3581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7" name="Group 14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778" name="Freeform 15"/>
            <p:cNvSpPr/>
            <p:nvPr/>
          </p:nvSpPr>
          <p:spPr>
            <a:xfrm>
              <a:off x="464832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Freeform 16"/>
            <p:cNvSpPr/>
            <p:nvPr/>
          </p:nvSpPr>
          <p:spPr>
            <a:xfrm>
              <a:off x="464832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Freeform 17"/>
            <p:cNvSpPr/>
            <p:nvPr/>
          </p:nvSpPr>
          <p:spPr>
            <a:xfrm>
              <a:off x="4872240" y="350532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1" name="Group 18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782" name="Freeform 19"/>
            <p:cNvSpPr/>
            <p:nvPr/>
          </p:nvSpPr>
          <p:spPr>
            <a:xfrm>
              <a:off x="6248520" y="3657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Freeform 20"/>
            <p:cNvSpPr/>
            <p:nvPr/>
          </p:nvSpPr>
          <p:spPr>
            <a:xfrm>
              <a:off x="6248520" y="3657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Freeform 21"/>
            <p:cNvSpPr/>
            <p:nvPr/>
          </p:nvSpPr>
          <p:spPr>
            <a:xfrm>
              <a:off x="6472440" y="3657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5" name="Group 22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786" name="Freeform 23"/>
            <p:cNvSpPr/>
            <p:nvPr/>
          </p:nvSpPr>
          <p:spPr>
            <a:xfrm>
              <a:off x="3352680" y="27432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Freeform 24"/>
            <p:cNvSpPr/>
            <p:nvPr/>
          </p:nvSpPr>
          <p:spPr>
            <a:xfrm>
              <a:off x="3352680" y="27432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Freeform 25"/>
            <p:cNvSpPr/>
            <p:nvPr/>
          </p:nvSpPr>
          <p:spPr>
            <a:xfrm>
              <a:off x="3576960" y="27432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Group 26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790" name="Freeform 27"/>
            <p:cNvSpPr/>
            <p:nvPr/>
          </p:nvSpPr>
          <p:spPr>
            <a:xfrm>
              <a:off x="3886200" y="5181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Freeform 28"/>
            <p:cNvSpPr/>
            <p:nvPr/>
          </p:nvSpPr>
          <p:spPr>
            <a:xfrm>
              <a:off x="3886200" y="5181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Freeform 29"/>
            <p:cNvSpPr/>
            <p:nvPr/>
          </p:nvSpPr>
          <p:spPr>
            <a:xfrm>
              <a:off x="4110120" y="5181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3" name="Group 30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794" name="Freeform 31"/>
            <p:cNvSpPr/>
            <p:nvPr/>
          </p:nvSpPr>
          <p:spPr>
            <a:xfrm>
              <a:off x="5486400" y="48006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Freeform 32"/>
            <p:cNvSpPr/>
            <p:nvPr/>
          </p:nvSpPr>
          <p:spPr>
            <a:xfrm>
              <a:off x="5486400" y="48006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Freeform 33"/>
            <p:cNvSpPr/>
            <p:nvPr/>
          </p:nvSpPr>
          <p:spPr>
            <a:xfrm>
              <a:off x="5710320" y="48006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7" name="Group 34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798" name="Freeform 35"/>
            <p:cNvSpPr/>
            <p:nvPr/>
          </p:nvSpPr>
          <p:spPr>
            <a:xfrm>
              <a:off x="3048120" y="45720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Freeform 36"/>
            <p:cNvSpPr/>
            <p:nvPr/>
          </p:nvSpPr>
          <p:spPr>
            <a:xfrm>
              <a:off x="3048120" y="45720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Freeform 37"/>
            <p:cNvSpPr/>
            <p:nvPr/>
          </p:nvSpPr>
          <p:spPr>
            <a:xfrm>
              <a:off x="3272040" y="4572000"/>
              <a:ext cx="7416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1" name="Group 38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802" name="Freeform 39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Freeform 40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Freeform 41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Line 42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Line 43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Line 44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Line 46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47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Line 50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Line 51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Line 52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Line 53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54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Line 57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AutoShape 59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AutoShape 60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61"/>
          <p:cNvSpPr/>
          <p:nvPr/>
        </p:nvSpPr>
        <p:spPr>
          <a:xfrm>
            <a:off x="304920" y="1219320"/>
            <a:ext cx="2209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otseühendus kord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E suunab os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otse masinale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ne osa võib seega jõuda kohale enne esimes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Line 62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Line 70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71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AutoShape 72"/>
          <p:cNvSpPr/>
          <p:nvPr/>
        </p:nvSpPr>
        <p:spPr>
          <a:xfrm>
            <a:off x="7360200" y="2631960"/>
            <a:ext cx="163152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äheb korda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73"/>
          <p:cNvSpPr/>
          <p:nvPr/>
        </p:nvSpPr>
        <p:spPr>
          <a:xfrm flipV="1">
            <a:off x="5334120" y="2050920"/>
            <a:ext cx="45720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lep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t kuidas infot saata ja sellest aru saada tule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lubab saata ainult väikeseid tekstijupp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ekstijupi ette pannakse lisainfo (päis ehk header), mis ütleb, 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hu see tekst siis saata tuleb (IP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st  tekst tuli (saatja IP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lisainfot ka v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9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840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Group 6"/>
          <p:cNvGrpSpPr/>
          <p:nvPr/>
        </p:nvGrpSpPr>
        <p:grpSpPr>
          <a:xfrm>
            <a:off x="1143000" y="3809880"/>
            <a:ext cx="6018120" cy="684360"/>
            <a:chOff x="1143000" y="3809880"/>
            <a:chExt cx="6018120" cy="684360"/>
          </a:xfrm>
        </p:grpSpPr>
        <p:sp>
          <p:nvSpPr>
            <p:cNvPr id="843" name="AutoShape 7"/>
            <p:cNvSpPr/>
            <p:nvPr/>
          </p:nvSpPr>
          <p:spPr>
            <a:xfrm>
              <a:off x="1143000" y="3809880"/>
              <a:ext cx="601812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AutoShape 8"/>
            <p:cNvSpPr/>
            <p:nvPr/>
          </p:nvSpPr>
          <p:spPr>
            <a:xfrm>
              <a:off x="1143000" y="3809880"/>
              <a:ext cx="601812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äis                     Sisutekst (data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5" name="Line 9"/>
          <p:cNvSpPr/>
          <p:nvPr/>
        </p:nvSpPr>
        <p:spPr>
          <a:xfrm>
            <a:off x="2666880" y="3809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CP/IP pere tööhobu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FC 79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aranteerib marsruutimise, st minemise õiges suun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tteusaldusväärne - ei taga kohalejõudm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sisendpuhver on täis, siis ignoreerib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loo kanali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ga datagrammi käsitletakse sõltumatul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malt (pole vaja pähe jätta!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0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851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53" name="Picture 6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8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9B425-4B79-40BA-BB14-2DFABB4D86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P: The waist of the hourglas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152280" y="1371600"/>
            <a:ext cx="4724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IP is the waist of the hourglass of the Internet protocol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ultiple higher-layer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ultiple lower-layer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Only one protocol at the network lay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0" y="1962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8" name="Object 2"/>
          <p:cNvGraphicFramePr/>
          <p:nvPr/>
        </p:nvGraphicFramePr>
        <p:xfrm>
          <a:off x="4929120" y="1643040"/>
          <a:ext cx="395784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1643040"/>
                    <a:ext cx="395784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P pakett etherneti paketi se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61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Line 4"/>
          <p:cNvSpPr/>
          <p:nvPr/>
        </p:nvSpPr>
        <p:spPr>
          <a:xfrm>
            <a:off x="1676520" y="41911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Line 5"/>
          <p:cNvSpPr/>
          <p:nvPr/>
        </p:nvSpPr>
        <p:spPr>
          <a:xfrm flipH="1">
            <a:off x="3276720" y="4191120"/>
            <a:ext cx="4952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5" name="Object 3"/>
          <p:cNvGraphicFramePr/>
          <p:nvPr/>
        </p:nvGraphicFramePr>
        <p:xfrm>
          <a:off x="380880" y="1704960"/>
          <a:ext cx="846792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04960"/>
                    <a:ext cx="84679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järgmised protokollid: UDP ja TCP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-protokolli, mis kasutavad IP-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UDP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(user datagram protocol). Ei kontrollita, kas info jõudis päral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CP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(transfer control protocol). Toimub kontroll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mbalgi puhul (TCP näitel):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69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870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2" name="Group 6"/>
          <p:cNvGrpSpPr/>
          <p:nvPr/>
        </p:nvGrpSpPr>
        <p:grpSpPr>
          <a:xfrm>
            <a:off x="838080" y="2895480"/>
            <a:ext cx="6018480" cy="684360"/>
            <a:chOff x="838080" y="2895480"/>
            <a:chExt cx="6018480" cy="684360"/>
          </a:xfrm>
        </p:grpSpPr>
        <p:sp>
          <p:nvSpPr>
            <p:cNvPr id="873" name="AutoShape 7"/>
            <p:cNvSpPr/>
            <p:nvPr/>
          </p:nvSpPr>
          <p:spPr>
            <a:xfrm>
              <a:off x="838080" y="2895480"/>
              <a:ext cx="601848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AutoShape 8"/>
            <p:cNvSpPr/>
            <p:nvPr/>
          </p:nvSpPr>
          <p:spPr>
            <a:xfrm>
              <a:off x="838080" y="2895480"/>
              <a:ext cx="601848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 Päis                     Sisutekst (data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5" name="Line 9"/>
          <p:cNvSpPr/>
          <p:nvPr/>
        </p:nvSpPr>
        <p:spPr>
          <a:xfrm>
            <a:off x="2133720" y="2895480"/>
            <a:ext cx="144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6" name="Group 10"/>
          <p:cNvGrpSpPr/>
          <p:nvPr/>
        </p:nvGrpSpPr>
        <p:grpSpPr>
          <a:xfrm>
            <a:off x="2209680" y="4876920"/>
            <a:ext cx="4646880" cy="760320"/>
            <a:chOff x="2209680" y="4876920"/>
            <a:chExt cx="4646880" cy="760320"/>
          </a:xfrm>
        </p:grpSpPr>
        <p:sp>
          <p:nvSpPr>
            <p:cNvPr id="877" name="AutoShape 11"/>
            <p:cNvSpPr/>
            <p:nvPr/>
          </p:nvSpPr>
          <p:spPr>
            <a:xfrm>
              <a:off x="2209680" y="4876920"/>
              <a:ext cx="4646880" cy="7603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AutoShape 12"/>
            <p:cNvSpPr/>
            <p:nvPr/>
          </p:nvSpPr>
          <p:spPr>
            <a:xfrm>
              <a:off x="2209680" y="4876920"/>
              <a:ext cx="4646880" cy="7603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 Päis            Vajalik  sisutek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9" name="Line 13"/>
          <p:cNvSpPr/>
          <p:nvPr/>
        </p:nvSpPr>
        <p:spPr>
          <a:xfrm>
            <a:off x="3581280" y="4952880"/>
            <a:ext cx="1800" cy="6098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14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Line 15"/>
          <p:cNvSpPr/>
          <p:nvPr/>
        </p:nvSpPr>
        <p:spPr>
          <a:xfrm>
            <a:off x="685800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AutoShape 16"/>
          <p:cNvSpPr/>
          <p:nvPr/>
        </p:nvSpPr>
        <p:spPr>
          <a:xfrm>
            <a:off x="2812320" y="3962520"/>
            <a:ext cx="4159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saldab omakorda päisega inf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UDP (User Datagram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 rakenduse väljund tekitab uue datagramm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taga usaldatav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tagrammi eh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ähte- ja sihtport (kumbki kaks baiti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atagrammi pikkus (kaks baiti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(kaks baiti, pole kohustuslik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meosa (varieeruva pikkusega hulk baite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DP paketi maksimaalpikkus on seega 64 kilobait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trollsumma vea puhul unustatakse datagram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akendused: DNS, NFS, TF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85" name="Line 3"/>
          <p:cNvSpPr/>
          <p:nvPr/>
        </p:nvSpPr>
        <p:spPr>
          <a:xfrm flipH="1">
            <a:off x="984240" y="3200400"/>
            <a:ext cx="393840" cy="762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27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ülevaade võrgunduse funktsion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62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8"/>
          <p:cNvSpPr/>
          <p:nvPr/>
        </p:nvSpPr>
        <p:spPr>
          <a:xfrm>
            <a:off x="1021320" y="2932200"/>
            <a:ext cx="311220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ib kog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eg ja ootab, et kee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lle infot (mingi teksti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aks. Kui saadetaks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ta rehkendab vast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aadab vastu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6064920" y="3276720"/>
            <a:ext cx="312444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aad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le 1 masina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, ootab vastu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järel vaatab, m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es on, ja vastav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guts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2533680" y="1981080"/>
            <a:ext cx="1044720" cy="36828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6422760" y="533412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2743200" y="2666880"/>
            <a:ext cx="4800600" cy="2743200"/>
          </a:xfrm>
          <a:prstGeom prst="line">
            <a:avLst/>
          </a:prstGeom>
          <a:ln w="25560">
            <a:solidFill>
              <a:srgbClr val="3333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 flipH="1">
            <a:off x="4412880" y="2209680"/>
            <a:ext cx="191772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6437160" y="1789200"/>
            <a:ext cx="246456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 või raadio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 valguska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15"/>
          <p:cNvGrpSpPr/>
          <p:nvPr/>
        </p:nvGrpSpPr>
        <p:grpSpPr>
          <a:xfrm>
            <a:off x="557280" y="4724280"/>
            <a:ext cx="5459040" cy="1489320"/>
            <a:chOff x="557280" y="4724280"/>
            <a:chExt cx="5459040" cy="1489320"/>
          </a:xfrm>
        </p:grpSpPr>
        <p:sp>
          <p:nvSpPr>
            <p:cNvPr id="74" name="AutoShape 16"/>
            <p:cNvSpPr/>
            <p:nvPr/>
          </p:nvSpPr>
          <p:spPr>
            <a:xfrm>
              <a:off x="609120" y="4724280"/>
              <a:ext cx="5313240" cy="1489320"/>
            </a:xfrm>
            <a:prstGeom prst="roundRect">
              <a:avLst>
                <a:gd name="adj" fmla="val 106"/>
              </a:avLst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AutoShape 17"/>
            <p:cNvSpPr/>
            <p:nvPr/>
          </p:nvSpPr>
          <p:spPr>
            <a:xfrm>
              <a:off x="557280" y="4724280"/>
              <a:ext cx="5459040" cy="12736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NB!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asinates X ja Y on</a:t>
              </a: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 elektroonikatük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(võrgukaart)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is on traadi küljes ja suudab mõõ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inget traadis ja sinna ise pinget peale and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rogrammid 1 ja 2 juhivad/kuulavad võrgukaar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kaardi draiveriprogrammi abil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CP(Transmission Control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ndusorienteeri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saldata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oo tüü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agab voo segment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tes käivitab taimeri ja ootab kinnitu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nnitab saadud segmen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päisest ja andmete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rastab segmentide järjest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ustab dublikaa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ib voo mahtu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61840" y="13456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s elab korraga palju programme ja igaüks tahab saada/saata oma pakette. Millisele programmile konkreetne pakett saata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le antakse kasut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ummerdatud TCP või UDP port (need ei ole füüsilised pistikud!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e määravad: IP aadressid, pordid,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0" name="Group 3"/>
          <p:cNvGrpSpPr/>
          <p:nvPr/>
        </p:nvGrpSpPr>
        <p:grpSpPr>
          <a:xfrm>
            <a:off x="838080" y="3429000"/>
            <a:ext cx="2665440" cy="2741760"/>
            <a:chOff x="838080" y="3429000"/>
            <a:chExt cx="2665440" cy="2741760"/>
          </a:xfrm>
        </p:grpSpPr>
        <p:sp>
          <p:nvSpPr>
            <p:cNvPr id="891" name="AutoShape 4"/>
            <p:cNvSpPr/>
            <p:nvPr/>
          </p:nvSpPr>
          <p:spPr>
            <a:xfrm>
              <a:off x="838080" y="3429000"/>
              <a:ext cx="2665440" cy="2741760"/>
            </a:xfrm>
            <a:custGeom>
              <a:avLst/>
              <a:gdLst>
                <a:gd name="textAreaLeft" fmla="*/ 360 w 2665440"/>
                <a:gd name="textAreaRight" fmla="*/ 2665080 w 266544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2218">
                  <a:moveTo>
                    <a:pt x="12" y="0"/>
                  </a:moveTo>
                  <a:arcTo wR="12" hR="12" stAng="16200000" swAng="-5400000"/>
                  <a:lnTo>
                    <a:pt x="0" y="22206"/>
                  </a:lnTo>
                  <a:arcTo wR="12" hR="12" stAng="10800000" swAng="-5400000"/>
                  <a:lnTo>
                    <a:pt x="21588" y="22218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AutoShape 5"/>
            <p:cNvSpPr/>
            <p:nvPr/>
          </p:nvSpPr>
          <p:spPr>
            <a:xfrm>
              <a:off x="838080" y="3429000"/>
              <a:ext cx="2665440" cy="2741760"/>
            </a:xfrm>
            <a:custGeom>
              <a:avLst/>
              <a:gdLst>
                <a:gd name="textAreaLeft" fmla="*/ 360 w 2665440"/>
                <a:gd name="textAreaRight" fmla="*/ 2665080 w 266544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2218">
                  <a:moveTo>
                    <a:pt x="12" y="0"/>
                  </a:moveTo>
                  <a:arcTo wR="12" hR="12" stAng="16200000" swAng="-5400000"/>
                  <a:lnTo>
                    <a:pt x="0" y="22206"/>
                  </a:lnTo>
                  <a:arcTo wR="12" hR="12" stAng="10800000" swAng="-5400000"/>
                  <a:lnTo>
                    <a:pt x="21588" y="22218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3" name="AutoShape 6"/>
          <p:cNvSpPr/>
          <p:nvPr/>
        </p:nvSpPr>
        <p:spPr>
          <a:xfrm>
            <a:off x="6477120" y="327672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4" name="Group 7"/>
          <p:cNvGrpSpPr/>
          <p:nvPr/>
        </p:nvGrpSpPr>
        <p:grpSpPr>
          <a:xfrm>
            <a:off x="4191120" y="3505320"/>
            <a:ext cx="303120" cy="303120"/>
            <a:chOff x="4191120" y="3505320"/>
            <a:chExt cx="303120" cy="303120"/>
          </a:xfrm>
        </p:grpSpPr>
        <p:sp>
          <p:nvSpPr>
            <p:cNvPr id="895" name="Oval 8"/>
            <p:cNvSpPr/>
            <p:nvPr/>
          </p:nvSpPr>
          <p:spPr>
            <a:xfrm>
              <a:off x="4191120" y="3505320"/>
              <a:ext cx="303120" cy="3031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AutoShape 9"/>
            <p:cNvSpPr/>
            <p:nvPr/>
          </p:nvSpPr>
          <p:spPr>
            <a:xfrm>
              <a:off x="4235040" y="3549240"/>
              <a:ext cx="213120" cy="2131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7" name="Group 10"/>
          <p:cNvGrpSpPr/>
          <p:nvPr/>
        </p:nvGrpSpPr>
        <p:grpSpPr>
          <a:xfrm>
            <a:off x="4191120" y="4343400"/>
            <a:ext cx="303120" cy="379440"/>
            <a:chOff x="4191120" y="4343400"/>
            <a:chExt cx="303120" cy="379440"/>
          </a:xfrm>
        </p:grpSpPr>
        <p:sp>
          <p:nvSpPr>
            <p:cNvPr id="898" name="Oval 11"/>
            <p:cNvSpPr/>
            <p:nvPr/>
          </p:nvSpPr>
          <p:spPr>
            <a:xfrm>
              <a:off x="4191120" y="4343400"/>
              <a:ext cx="303120" cy="37944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AutoShape 12"/>
            <p:cNvSpPr/>
            <p:nvPr/>
          </p:nvSpPr>
          <p:spPr>
            <a:xfrm>
              <a:off x="4235040" y="4398480"/>
              <a:ext cx="213120" cy="267480"/>
            </a:xfrm>
            <a:custGeom>
              <a:avLst/>
              <a:gdLst>
                <a:gd name="textAreaLeft" fmla="*/ 360 w 213120"/>
                <a:gd name="textAreaRight" fmla="*/ 212760 w 213120"/>
                <a:gd name="textAreaTop" fmla="*/ 360 h 267480"/>
                <a:gd name="textAreaBottom" fmla="*/ 267120 h 267480"/>
              </a:gdLst>
              <a:ahLst/>
              <a:rect l="textAreaLeft" t="textAreaTop" r="textAreaRight" b="textAreaBottom"/>
              <a:pathLst>
                <a:path w="21600" h="27100">
                  <a:moveTo>
                    <a:pt x="161" y="0"/>
                  </a:moveTo>
                  <a:arcTo wR="161" hR="161" stAng="16200000" swAng="-5400000"/>
                  <a:lnTo>
                    <a:pt x="0" y="26939"/>
                  </a:lnTo>
                  <a:arcTo wR="161" hR="161" stAng="10800000" swAng="-5400000"/>
                  <a:lnTo>
                    <a:pt x="21439" y="27100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Group 13"/>
          <p:cNvGrpSpPr/>
          <p:nvPr/>
        </p:nvGrpSpPr>
        <p:grpSpPr>
          <a:xfrm>
            <a:off x="4191120" y="5791320"/>
            <a:ext cx="303120" cy="303120"/>
            <a:chOff x="4191120" y="5791320"/>
            <a:chExt cx="303120" cy="303120"/>
          </a:xfrm>
        </p:grpSpPr>
        <p:sp>
          <p:nvSpPr>
            <p:cNvPr id="901" name="Oval 14"/>
            <p:cNvSpPr/>
            <p:nvPr/>
          </p:nvSpPr>
          <p:spPr>
            <a:xfrm>
              <a:off x="4191120" y="5791320"/>
              <a:ext cx="303120" cy="3031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AutoShape 15"/>
            <p:cNvSpPr/>
            <p:nvPr/>
          </p:nvSpPr>
          <p:spPr>
            <a:xfrm>
              <a:off x="4235040" y="5835240"/>
              <a:ext cx="213120" cy="2131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3" name="Group 16"/>
          <p:cNvGrpSpPr/>
          <p:nvPr/>
        </p:nvGrpSpPr>
        <p:grpSpPr>
          <a:xfrm>
            <a:off x="5791320" y="3429000"/>
            <a:ext cx="303120" cy="303120"/>
            <a:chOff x="5791320" y="3429000"/>
            <a:chExt cx="303120" cy="303120"/>
          </a:xfrm>
        </p:grpSpPr>
        <p:sp>
          <p:nvSpPr>
            <p:cNvPr id="904" name="Oval 17"/>
            <p:cNvSpPr/>
            <p:nvPr/>
          </p:nvSpPr>
          <p:spPr>
            <a:xfrm>
              <a:off x="5791320" y="3429000"/>
              <a:ext cx="303120" cy="3031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AutoShape 18"/>
            <p:cNvSpPr/>
            <p:nvPr/>
          </p:nvSpPr>
          <p:spPr>
            <a:xfrm>
              <a:off x="5835240" y="3472920"/>
              <a:ext cx="213120" cy="214560"/>
            </a:xfrm>
            <a:custGeom>
              <a:avLst/>
              <a:gdLst>
                <a:gd name="textAreaLeft" fmla="*/ 360 w 213120"/>
                <a:gd name="textAreaRight" fmla="*/ 212760 w 213120"/>
                <a:gd name="textAreaTop" fmla="*/ 360 h 214560"/>
                <a:gd name="textAreaBottom" fmla="*/ 214200 h 214560"/>
              </a:gdLst>
              <a:ahLst/>
              <a:rect l="textAreaLeft" t="textAreaTop" r="textAreaRight" b="textAreaBottom"/>
              <a:pathLst>
                <a:path w="21600" h="21746">
                  <a:moveTo>
                    <a:pt x="161" y="0"/>
                  </a:moveTo>
                  <a:arcTo wR="161" hR="161" stAng="16200000" swAng="-5400000"/>
                  <a:lnTo>
                    <a:pt x="0" y="21585"/>
                  </a:lnTo>
                  <a:arcTo wR="161" hR="161" stAng="10800000" swAng="-5400000"/>
                  <a:lnTo>
                    <a:pt x="21439" y="21746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6" name="Group 19"/>
          <p:cNvGrpSpPr/>
          <p:nvPr/>
        </p:nvGrpSpPr>
        <p:grpSpPr>
          <a:xfrm>
            <a:off x="5715000" y="4267080"/>
            <a:ext cx="303120" cy="303480"/>
            <a:chOff x="5715000" y="4267080"/>
            <a:chExt cx="303120" cy="303480"/>
          </a:xfrm>
        </p:grpSpPr>
        <p:sp>
          <p:nvSpPr>
            <p:cNvPr id="907" name="Oval 20"/>
            <p:cNvSpPr/>
            <p:nvPr/>
          </p:nvSpPr>
          <p:spPr>
            <a:xfrm>
              <a:off x="5715000" y="4267080"/>
              <a:ext cx="303120" cy="3034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AutoShape 21"/>
            <p:cNvSpPr/>
            <p:nvPr/>
          </p:nvSpPr>
          <p:spPr>
            <a:xfrm>
              <a:off x="5758920" y="4311360"/>
              <a:ext cx="214560" cy="214920"/>
            </a:xfrm>
            <a:custGeom>
              <a:avLst/>
              <a:gdLst>
                <a:gd name="textAreaLeft" fmla="*/ 360 w 214560"/>
                <a:gd name="textAreaRight" fmla="*/ 214200 w 214560"/>
                <a:gd name="textAreaTop" fmla="*/ 360 h 214920"/>
                <a:gd name="textAreaBottom" fmla="*/ 214560 h 214920"/>
              </a:gdLst>
              <a:ahLst/>
              <a:rect l="textAreaLeft" t="textAreaTop" r="textAreaRight" b="textAreaBottom"/>
              <a:pathLst>
                <a:path w="21600" h="21636">
                  <a:moveTo>
                    <a:pt x="158" y="0"/>
                  </a:moveTo>
                  <a:arcTo wR="158" hR="158" stAng="16200000" swAng="-5400000"/>
                  <a:lnTo>
                    <a:pt x="0" y="21478"/>
                  </a:lnTo>
                  <a:arcTo wR="158" hR="158" stAng="10800000" swAng="-5400000"/>
                  <a:lnTo>
                    <a:pt x="21442" y="21636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9" name="Group 22"/>
          <p:cNvGrpSpPr/>
          <p:nvPr/>
        </p:nvGrpSpPr>
        <p:grpSpPr>
          <a:xfrm>
            <a:off x="5791320" y="5715000"/>
            <a:ext cx="303120" cy="303120"/>
            <a:chOff x="5791320" y="5715000"/>
            <a:chExt cx="303120" cy="303120"/>
          </a:xfrm>
        </p:grpSpPr>
        <p:sp>
          <p:nvSpPr>
            <p:cNvPr id="910" name="Oval 23"/>
            <p:cNvSpPr/>
            <p:nvPr/>
          </p:nvSpPr>
          <p:spPr>
            <a:xfrm>
              <a:off x="5791320" y="5715000"/>
              <a:ext cx="303120" cy="3031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AutoShape 24"/>
            <p:cNvSpPr/>
            <p:nvPr/>
          </p:nvSpPr>
          <p:spPr>
            <a:xfrm>
              <a:off x="5835240" y="5758920"/>
              <a:ext cx="213120" cy="214560"/>
            </a:xfrm>
            <a:custGeom>
              <a:avLst/>
              <a:gdLst>
                <a:gd name="textAreaLeft" fmla="*/ 360 w 213120"/>
                <a:gd name="textAreaRight" fmla="*/ 212760 w 213120"/>
                <a:gd name="textAreaTop" fmla="*/ 360 h 214560"/>
                <a:gd name="textAreaBottom" fmla="*/ 214200 h 214560"/>
              </a:gdLst>
              <a:ahLst/>
              <a:rect l="textAreaLeft" t="textAreaTop" r="textAreaRight" b="textAreaBottom"/>
              <a:pathLst>
                <a:path w="21600" h="21746">
                  <a:moveTo>
                    <a:pt x="161" y="0"/>
                  </a:moveTo>
                  <a:arcTo wR="161" hR="161" stAng="16200000" swAng="-5400000"/>
                  <a:lnTo>
                    <a:pt x="0" y="21585"/>
                  </a:lnTo>
                  <a:arcTo wR="161" hR="161" stAng="10800000" swAng="-5400000"/>
                  <a:lnTo>
                    <a:pt x="21439" y="21746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2" name="Line 25"/>
          <p:cNvSpPr/>
          <p:nvPr/>
        </p:nvSpPr>
        <p:spPr>
          <a:xfrm flipH="1">
            <a:off x="3498840" y="3657600"/>
            <a:ext cx="698400" cy="763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Line 26"/>
          <p:cNvSpPr/>
          <p:nvPr/>
        </p:nvSpPr>
        <p:spPr>
          <a:xfrm flipH="1">
            <a:off x="3422520" y="4572000"/>
            <a:ext cx="77472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Line 27"/>
          <p:cNvSpPr/>
          <p:nvPr/>
        </p:nvSpPr>
        <p:spPr>
          <a:xfrm flipH="1" flipV="1">
            <a:off x="3498840" y="5860800"/>
            <a:ext cx="698400" cy="889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Line 28"/>
          <p:cNvSpPr/>
          <p:nvPr/>
        </p:nvSpPr>
        <p:spPr>
          <a:xfrm>
            <a:off x="6095880" y="3581280"/>
            <a:ext cx="38124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Line 29"/>
          <p:cNvSpPr/>
          <p:nvPr/>
        </p:nvSpPr>
        <p:spPr>
          <a:xfrm>
            <a:off x="6019920" y="4419720"/>
            <a:ext cx="4572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Line 30"/>
          <p:cNvSpPr/>
          <p:nvPr/>
        </p:nvSpPr>
        <p:spPr>
          <a:xfrm>
            <a:off x="6095880" y="5867280"/>
            <a:ext cx="4572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Line 31"/>
          <p:cNvSpPr/>
          <p:nvPr/>
        </p:nvSpPr>
        <p:spPr>
          <a:xfrm flipV="1">
            <a:off x="2286000" y="3727440"/>
            <a:ext cx="1219320" cy="1231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Line 32"/>
          <p:cNvSpPr/>
          <p:nvPr/>
        </p:nvSpPr>
        <p:spPr>
          <a:xfrm flipV="1">
            <a:off x="2133720" y="4565160"/>
            <a:ext cx="1295280" cy="622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Line 33"/>
          <p:cNvSpPr/>
          <p:nvPr/>
        </p:nvSpPr>
        <p:spPr>
          <a:xfrm flipV="1">
            <a:off x="1905120" y="4946400"/>
            <a:ext cx="1752480" cy="546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AutoShape 34"/>
          <p:cNvSpPr/>
          <p:nvPr/>
        </p:nvSpPr>
        <p:spPr>
          <a:xfrm>
            <a:off x="4120920" y="510552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AutoShape 35"/>
          <p:cNvSpPr/>
          <p:nvPr/>
        </p:nvSpPr>
        <p:spPr>
          <a:xfrm>
            <a:off x="5646600" y="495288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Line 36"/>
          <p:cNvSpPr/>
          <p:nvPr/>
        </p:nvSpPr>
        <p:spPr>
          <a:xfrm flipH="1">
            <a:off x="4489200" y="3657600"/>
            <a:ext cx="1307880" cy="7621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Line 37"/>
          <p:cNvSpPr/>
          <p:nvPr/>
        </p:nvSpPr>
        <p:spPr>
          <a:xfrm flipH="1" flipV="1">
            <a:off x="4413240" y="3727080"/>
            <a:ext cx="1231920" cy="6224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Line 38"/>
          <p:cNvSpPr/>
          <p:nvPr/>
        </p:nvSpPr>
        <p:spPr>
          <a:xfrm flipH="1">
            <a:off x="4565160" y="5867280"/>
            <a:ext cx="1155960" cy="76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AutoShape 39"/>
          <p:cNvSpPr/>
          <p:nvPr/>
        </p:nvSpPr>
        <p:spPr>
          <a:xfrm>
            <a:off x="6512400" y="338940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Line 40"/>
          <p:cNvSpPr/>
          <p:nvPr/>
        </p:nvSpPr>
        <p:spPr>
          <a:xfrm>
            <a:off x="6400800" y="5334120"/>
            <a:ext cx="152280" cy="380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Line 41"/>
          <p:cNvSpPr/>
          <p:nvPr/>
        </p:nvSpPr>
        <p:spPr>
          <a:xfrm>
            <a:off x="6477120" y="3581280"/>
            <a:ext cx="457200" cy="1905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Line 42"/>
          <p:cNvSpPr/>
          <p:nvPr/>
        </p:nvSpPr>
        <p:spPr>
          <a:xfrm>
            <a:off x="6477120" y="4419720"/>
            <a:ext cx="228600" cy="761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ortide liig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 - 1023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tuntud pordid, sh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1       FTP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3       telnet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17     UD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024 – 5000      klientprogrammide ajutised por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5000                muud (mitte-üldtuntud) serve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lient - server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25480" y="1468080"/>
            <a:ext cx="784872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dine algorit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ootab mingil üldteada pordil ühenduskutse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reserveerib dünaamilise por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saadab serverile ühenduskutse (koos oma pordinumbriga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vastab kliendile tema pordinumbr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ereeriv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võta vastu uut kutset enne eelneva töötlem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ralleelne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b iga kutse jaoks eraldi serveri ajutise pordinumbriga selle ühenduse jao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ga on mitme ajas lähestikuse kutse järel masinas käimas mitu “koopiat” ehk protsessi või threadi ühest server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jatele paistab, et need “koopiad” käivad korraga, tegelikult hoolitseb selle “kooskäimise simulatsiooni” eest opsüste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SO - OSI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935" name="Object 2"/>
          <p:cNvGraphicFramePr/>
          <p:nvPr/>
        </p:nvGraphicFramePr>
        <p:xfrm>
          <a:off x="2979720" y="1676520"/>
          <a:ext cx="354492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676520"/>
                    <a:ext cx="35449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I mudeli kih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des (interface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ma süsteemi eri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tokoll (protocol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 süsteemide samade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939" name="Object 3"/>
          <p:cNvGraphicFramePr/>
          <p:nvPr/>
        </p:nvGraphicFramePr>
        <p:xfrm>
          <a:off x="4435560" y="2354400"/>
          <a:ext cx="4216320" cy="30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5560" y="2354400"/>
                    <a:ext cx="421632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psel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942" name="Object 2"/>
          <p:cNvGraphicFramePr/>
          <p:nvPr/>
        </p:nvGraphicFramePr>
        <p:xfrm>
          <a:off x="2265480" y="1889280"/>
          <a:ext cx="4670280" cy="39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1889280"/>
                    <a:ext cx="467028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O-OSI põhimõte ja internetiprotokollid: võrdl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46" name="Picture 4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3059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okollipered (internet ja mõned muud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948" name="Object 2"/>
          <p:cNvGraphicFramePr/>
          <p:nvPr/>
        </p:nvGraphicFramePr>
        <p:xfrm>
          <a:off x="1646280" y="1676520"/>
          <a:ext cx="62323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76520"/>
                    <a:ext cx="6232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0" name="Object 3"/>
          <p:cNvGraphicFramePr/>
          <p:nvPr/>
        </p:nvGraphicFramePr>
        <p:xfrm>
          <a:off x="2209680" y="1066680"/>
          <a:ext cx="4572000" cy="518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066680"/>
                    <a:ext cx="4572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Line 4"/>
          <p:cNvSpPr/>
          <p:nvPr/>
        </p:nvSpPr>
        <p:spPr>
          <a:xfrm flipH="1" flipV="1">
            <a:off x="6775200" y="2813040"/>
            <a:ext cx="927000" cy="698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AutoShape 5"/>
          <p:cNvSpPr/>
          <p:nvPr/>
        </p:nvSpPr>
        <p:spPr>
          <a:xfrm>
            <a:off x="7392960" y="3505320"/>
            <a:ext cx="1219320" cy="119196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a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okoll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he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6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957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9" name="Group 6"/>
          <p:cNvGrpSpPr/>
          <p:nvPr/>
        </p:nvGrpSpPr>
        <p:grpSpPr>
          <a:xfrm>
            <a:off x="2971800" y="5638680"/>
            <a:ext cx="3579840" cy="455760"/>
            <a:chOff x="2971800" y="5638680"/>
            <a:chExt cx="3579840" cy="455760"/>
          </a:xfrm>
        </p:grpSpPr>
        <p:sp>
          <p:nvSpPr>
            <p:cNvPr id="960" name="AutoShape 7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AutoShape 8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2" name="Group 9"/>
          <p:cNvGrpSpPr/>
          <p:nvPr/>
        </p:nvGrpSpPr>
        <p:grpSpPr>
          <a:xfrm>
            <a:off x="2971800" y="5029200"/>
            <a:ext cx="3579840" cy="455760"/>
            <a:chOff x="2971800" y="5029200"/>
            <a:chExt cx="3579840" cy="455760"/>
          </a:xfrm>
        </p:grpSpPr>
        <p:sp>
          <p:nvSpPr>
            <p:cNvPr id="963" name="AutoShape 10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AutoShape 11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5" name="Group 12"/>
          <p:cNvGrpSpPr/>
          <p:nvPr/>
        </p:nvGrpSpPr>
        <p:grpSpPr>
          <a:xfrm>
            <a:off x="2895480" y="4038480"/>
            <a:ext cx="3579840" cy="532080"/>
            <a:chOff x="2895480" y="4038480"/>
            <a:chExt cx="3579840" cy="532080"/>
          </a:xfrm>
        </p:grpSpPr>
        <p:sp>
          <p:nvSpPr>
            <p:cNvPr id="966" name="AutoShape 13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AutoShape 14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Group 15"/>
          <p:cNvGrpSpPr/>
          <p:nvPr/>
        </p:nvGrpSpPr>
        <p:grpSpPr>
          <a:xfrm>
            <a:off x="2133720" y="2666880"/>
            <a:ext cx="1598400" cy="760680"/>
            <a:chOff x="2133720" y="2666880"/>
            <a:chExt cx="1598400" cy="760680"/>
          </a:xfrm>
        </p:grpSpPr>
        <p:sp>
          <p:nvSpPr>
            <p:cNvPr id="969" name="AutoShape 16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AutoShape 17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1" name="Group 18"/>
          <p:cNvGrpSpPr/>
          <p:nvPr/>
        </p:nvGrpSpPr>
        <p:grpSpPr>
          <a:xfrm>
            <a:off x="5562720" y="2743200"/>
            <a:ext cx="1598400" cy="760320"/>
            <a:chOff x="5562720" y="2743200"/>
            <a:chExt cx="1598400" cy="760320"/>
          </a:xfrm>
        </p:grpSpPr>
        <p:sp>
          <p:nvSpPr>
            <p:cNvPr id="972" name="AutoShape 19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AutoShape 20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4" name="Group 21"/>
          <p:cNvGrpSpPr/>
          <p:nvPr/>
        </p:nvGrpSpPr>
        <p:grpSpPr>
          <a:xfrm>
            <a:off x="1219320" y="1600200"/>
            <a:ext cx="1065240" cy="684360"/>
            <a:chOff x="1219320" y="1600200"/>
            <a:chExt cx="1065240" cy="684360"/>
          </a:xfrm>
        </p:grpSpPr>
        <p:sp>
          <p:nvSpPr>
            <p:cNvPr id="975" name="AutoShape 22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AutoShape 23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7" name="Group 24"/>
          <p:cNvGrpSpPr/>
          <p:nvPr/>
        </p:nvGrpSpPr>
        <p:grpSpPr>
          <a:xfrm>
            <a:off x="2438280" y="1600200"/>
            <a:ext cx="1065240" cy="684360"/>
            <a:chOff x="2438280" y="1600200"/>
            <a:chExt cx="1065240" cy="684360"/>
          </a:xfrm>
        </p:grpSpPr>
        <p:sp>
          <p:nvSpPr>
            <p:cNvPr id="978" name="AutoShape 25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AutoShape 26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0" name="Group 27"/>
          <p:cNvGrpSpPr/>
          <p:nvPr/>
        </p:nvGrpSpPr>
        <p:grpSpPr>
          <a:xfrm>
            <a:off x="3657600" y="1600200"/>
            <a:ext cx="1065240" cy="684360"/>
            <a:chOff x="3657600" y="1600200"/>
            <a:chExt cx="1065240" cy="684360"/>
          </a:xfrm>
        </p:grpSpPr>
        <p:sp>
          <p:nvSpPr>
            <p:cNvPr id="981" name="AutoShape 28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AutoShape 29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3" name="Group 30"/>
          <p:cNvGrpSpPr/>
          <p:nvPr/>
        </p:nvGrpSpPr>
        <p:grpSpPr>
          <a:xfrm>
            <a:off x="5334120" y="1600200"/>
            <a:ext cx="1065240" cy="684360"/>
            <a:chOff x="5334120" y="1600200"/>
            <a:chExt cx="1065240" cy="684360"/>
          </a:xfrm>
        </p:grpSpPr>
        <p:sp>
          <p:nvSpPr>
            <p:cNvPr id="984" name="AutoShape 31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AutoShape 32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6" name="Group 33"/>
          <p:cNvGrpSpPr/>
          <p:nvPr/>
        </p:nvGrpSpPr>
        <p:grpSpPr>
          <a:xfrm>
            <a:off x="6705720" y="1600200"/>
            <a:ext cx="1065240" cy="684360"/>
            <a:chOff x="6705720" y="1600200"/>
            <a:chExt cx="1065240" cy="684360"/>
          </a:xfrm>
        </p:grpSpPr>
        <p:sp>
          <p:nvSpPr>
            <p:cNvPr id="987" name="AutoShape 34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AutoShape 35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9" name="Freeform 36"/>
          <p:cNvSpPr/>
          <p:nvPr/>
        </p:nvSpPr>
        <p:spPr>
          <a:xfrm>
            <a:off x="1344600" y="2379600"/>
            <a:ext cx="6411960" cy="240984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Line 37"/>
          <p:cNvSpPr/>
          <p:nvPr/>
        </p:nvSpPr>
        <p:spPr>
          <a:xfrm flipV="1">
            <a:off x="1066680" y="4032000"/>
            <a:ext cx="838440" cy="13078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AutoShape 38"/>
          <p:cNvSpPr/>
          <p:nvPr/>
        </p:nvSpPr>
        <p:spPr>
          <a:xfrm>
            <a:off x="12312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Line 39"/>
          <p:cNvSpPr/>
          <p:nvPr/>
        </p:nvSpPr>
        <p:spPr>
          <a:xfrm flipH="1" flipV="1">
            <a:off x="3193920" y="3498840"/>
            <a:ext cx="39384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Line 40"/>
          <p:cNvSpPr/>
          <p:nvPr/>
        </p:nvSpPr>
        <p:spPr>
          <a:xfrm flipV="1">
            <a:off x="5410080" y="3575160"/>
            <a:ext cx="3812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Line 41"/>
          <p:cNvSpPr/>
          <p:nvPr/>
        </p:nvSpPr>
        <p:spPr>
          <a:xfrm flipV="1">
            <a:off x="6629400" y="2355840"/>
            <a:ext cx="38088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Line 42"/>
          <p:cNvSpPr/>
          <p:nvPr/>
        </p:nvSpPr>
        <p:spPr>
          <a:xfrm flipH="1" flipV="1">
            <a:off x="6013080" y="2355840"/>
            <a:ext cx="1652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Line 43"/>
          <p:cNvSpPr/>
          <p:nvPr/>
        </p:nvSpPr>
        <p:spPr>
          <a:xfrm flipH="1" flipV="1">
            <a:off x="2126880" y="2279520"/>
            <a:ext cx="1652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Line 44"/>
          <p:cNvSpPr/>
          <p:nvPr/>
        </p:nvSpPr>
        <p:spPr>
          <a:xfrm flipV="1">
            <a:off x="2895480" y="2355840"/>
            <a:ext cx="1800" cy="241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Line 45"/>
          <p:cNvSpPr/>
          <p:nvPr/>
        </p:nvSpPr>
        <p:spPr>
          <a:xfrm flipV="1">
            <a:off x="3429000" y="2279520"/>
            <a:ext cx="30492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Line 46"/>
          <p:cNvSpPr/>
          <p:nvPr/>
        </p:nvSpPr>
        <p:spPr>
          <a:xfrm flipV="1">
            <a:off x="4648320" y="4641840"/>
            <a:ext cx="14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Line 47"/>
          <p:cNvSpPr/>
          <p:nvPr/>
        </p:nvSpPr>
        <p:spPr>
          <a:xfrm flipV="1">
            <a:off x="4648320" y="5479560"/>
            <a:ext cx="1440" cy="165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Line 48"/>
          <p:cNvSpPr/>
          <p:nvPr/>
        </p:nvSpPr>
        <p:spPr>
          <a:xfrm flipH="1">
            <a:off x="6622920" y="5334120"/>
            <a:ext cx="85104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AutoShape 49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Freeform 50"/>
          <p:cNvSpPr/>
          <p:nvPr/>
        </p:nvSpPr>
        <p:spPr>
          <a:xfrm>
            <a:off x="887400" y="1157400"/>
            <a:ext cx="7292880" cy="1249200"/>
          </a:xfrm>
          <a:prstGeom prst="pie">
            <a:avLst/>
          </a:pr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Line 51"/>
          <p:cNvSpPr/>
          <p:nvPr/>
        </p:nvSpPr>
        <p:spPr>
          <a:xfrm flipV="1">
            <a:off x="609480" y="2279160"/>
            <a:ext cx="609840" cy="622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Text Box 52"/>
          <p:cNvSpPr/>
          <p:nvPr/>
        </p:nvSpPr>
        <p:spPr>
          <a:xfrm>
            <a:off x="0" y="2895480"/>
            <a:ext cx="182880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sama, mis eelmisel slaidi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mused, mis tahavad vast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on traadiga ühenduses mitme eri arvutiga (X, Z, U, ...) siis kuidas saata nimelt soovitud arvutisse (meie näites X) oma info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info hulk on väga suur (näiteks 700 MB), kas saaks seda üksikute väiksemate tükkidena saa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kontrollida, kas tükid jõudsid päral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ha, kui mõni tükk kaduma läh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arvuti X tükid õieti kokku oskab pann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8" name="Group 3"/>
          <p:cNvGrpSpPr/>
          <p:nvPr/>
        </p:nvGrpSpPr>
        <p:grpSpPr>
          <a:xfrm>
            <a:off x="838080" y="376200"/>
            <a:ext cx="7769160" cy="309600"/>
            <a:chOff x="838080" y="376200"/>
            <a:chExt cx="7769160" cy="309600"/>
          </a:xfrm>
        </p:grpSpPr>
        <p:sp>
          <p:nvSpPr>
            <p:cNvPr id="79" name="Line 4"/>
            <p:cNvSpPr/>
            <p:nvPr/>
          </p:nvSpPr>
          <p:spPr>
            <a:xfrm>
              <a:off x="838080" y="681120"/>
              <a:ext cx="776808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Line 5"/>
            <p:cNvSpPr/>
            <p:nvPr/>
          </p:nvSpPr>
          <p:spPr>
            <a:xfrm flipV="1">
              <a:off x="8606160" y="3762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8" name="AutoShape 3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9" name="Group 4"/>
          <p:cNvGrpSpPr/>
          <p:nvPr/>
        </p:nvGrpSpPr>
        <p:grpSpPr>
          <a:xfrm>
            <a:off x="6934320" y="4114800"/>
            <a:ext cx="1598400" cy="1903320"/>
            <a:chOff x="6934320" y="4114800"/>
            <a:chExt cx="1598400" cy="1903320"/>
          </a:xfrm>
        </p:grpSpPr>
        <p:sp>
          <p:nvSpPr>
            <p:cNvPr id="1010" name="AutoShape 5"/>
            <p:cNvSpPr/>
            <p:nvPr/>
          </p:nvSpPr>
          <p:spPr>
            <a:xfrm>
              <a:off x="6934320" y="4114800"/>
              <a:ext cx="1598400" cy="1903320"/>
            </a:xfrm>
            <a:custGeom>
              <a:avLst/>
              <a:gdLst>
                <a:gd name="textAreaLeft" fmla="*/ 360 w 1598400"/>
                <a:gd name="textAreaRight" fmla="*/ 1598040 w 159840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5720">
                  <a:moveTo>
                    <a:pt x="21" y="0"/>
                  </a:moveTo>
                  <a:arcTo wR="21" hR="21" stAng="16200000" swAng="-5400000"/>
                  <a:lnTo>
                    <a:pt x="0" y="25699"/>
                  </a:lnTo>
                  <a:arcTo wR="21" hR="21" stAng="10800000" swAng="-5400000"/>
                  <a:lnTo>
                    <a:pt x="21579" y="25720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AutoShape 6"/>
            <p:cNvSpPr/>
            <p:nvPr/>
          </p:nvSpPr>
          <p:spPr>
            <a:xfrm>
              <a:off x="6934320" y="4114800"/>
              <a:ext cx="1598400" cy="1903320"/>
            </a:xfrm>
            <a:custGeom>
              <a:avLst/>
              <a:gdLst>
                <a:gd name="textAreaLeft" fmla="*/ 360 w 1598400"/>
                <a:gd name="textAreaRight" fmla="*/ 1598040 w 159840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5720">
                  <a:moveTo>
                    <a:pt x="21" y="0"/>
                  </a:moveTo>
                  <a:arcTo wR="21" hR="21" stAng="16200000" swAng="-5400000"/>
                  <a:lnTo>
                    <a:pt x="0" y="25699"/>
                  </a:lnTo>
                  <a:arcTo wR="21" hR="21" stAng="10800000" swAng="-5400000"/>
                  <a:lnTo>
                    <a:pt x="21579" y="25720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2" name="AutoShape 7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Line 8"/>
          <p:cNvSpPr/>
          <p:nvPr/>
        </p:nvSpPr>
        <p:spPr>
          <a:xfrm flipH="1" flipV="1">
            <a:off x="3346200" y="2584080"/>
            <a:ext cx="3289320" cy="1384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AutoShape 9"/>
          <p:cNvSpPr/>
          <p:nvPr/>
        </p:nvSpPr>
        <p:spPr>
          <a:xfrm>
            <a:off x="483228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AutoShape 10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Line 11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päring on sisuliselt tekstiline käsk serverile: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ne küsimus-käs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 asukoht ja nim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tokoll, mida küsija kasuta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oovi korral lisainfot, nagu küsija programmi tüüp (Mozilla, Ie, Konqueror, ..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me telnet ühenduse masina deepthought.ttu.ee porti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ipime sisse, seejärel tipime kaks reavahetus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ET /it/index.html HTTP/1.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 päis, tühi rida, tekstire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21" name="Freeform 3"/>
          <p:cNvSpPr/>
          <p:nvPr/>
        </p:nvSpPr>
        <p:spPr>
          <a:xfrm>
            <a:off x="609480" y="1905120"/>
            <a:ext cx="228600" cy="2361960"/>
          </a:xfrm>
          <a:prstGeom prst="pie">
            <a:avLst/>
          </a:pr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AutoShape 4"/>
          <p:cNvSpPr/>
          <p:nvPr/>
        </p:nvSpPr>
        <p:spPr>
          <a:xfrm>
            <a:off x="16308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Line 5"/>
          <p:cNvSpPr/>
          <p:nvPr/>
        </p:nvSpPr>
        <p:spPr>
          <a:xfrm flipV="1">
            <a:off x="380880" y="4717800"/>
            <a:ext cx="45720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AutoShape 6"/>
          <p:cNvSpPr/>
          <p:nvPr/>
        </p:nvSpPr>
        <p:spPr>
          <a:xfrm>
            <a:off x="17784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Freeform 7"/>
          <p:cNvSpPr/>
          <p:nvPr/>
        </p:nvSpPr>
        <p:spPr>
          <a:xfrm>
            <a:off x="8001000" y="4952880"/>
            <a:ext cx="609480" cy="1371600"/>
          </a:xfrm>
          <a:prstGeom prst="pie">
            <a:avLst/>
          </a:pr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AutoShape 8"/>
          <p:cNvSpPr/>
          <p:nvPr/>
        </p:nvSpPr>
        <p:spPr>
          <a:xfrm>
            <a:off x="8019000" y="411480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dasi HTTP suunas: 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esann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ui programmile on antud masina nimi, millega ühendust võtta (näiteks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cnn.co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, siis tuleb kõigepealt leida sellenimelise masina IP aadres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NS server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serverid, mis sisaldavad “nimi&lt;-&gt;IP aadress” tabeleid ja vastavad päringutele “anna selle nime IP aadress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jutatud andmeb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DNS servereid on maailmas väga palju. Igaüks saab üles panna oma DNS serveri. DNS serverid süngivad omavahel infot oma tabelite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1"/>
          <p:cNvGrpSpPr/>
          <p:nvPr/>
        </p:nvGrpSpPr>
        <p:grpSpPr>
          <a:xfrm>
            <a:off x="5276880" y="1066680"/>
            <a:ext cx="3171960" cy="5179680"/>
            <a:chOff x="5276880" y="1066680"/>
            <a:chExt cx="3171960" cy="5179680"/>
          </a:xfrm>
        </p:grpSpPr>
        <p:sp>
          <p:nvSpPr>
            <p:cNvPr id="1030" name="Freeform 2"/>
            <p:cNvSpPr/>
            <p:nvPr/>
          </p:nvSpPr>
          <p:spPr>
            <a:xfrm>
              <a:off x="5276880" y="2971080"/>
              <a:ext cx="3171960" cy="3275280"/>
            </a:xfrm>
            <a:prstGeom prst="pie">
              <a:avLst/>
            </a:prstGeom>
            <a:solidFill>
              <a:srgbClr val="00cc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AutoShape 3"/>
            <p:cNvSpPr/>
            <p:nvPr/>
          </p:nvSpPr>
          <p:spPr>
            <a:xfrm>
              <a:off x="6778800" y="1066680"/>
              <a:ext cx="127872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o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4"/>
            <p:cNvSpPr/>
            <p:nvPr/>
          </p:nvSpPr>
          <p:spPr>
            <a:xfrm flipH="1">
              <a:off x="6819120" y="1447560"/>
              <a:ext cx="506160" cy="182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Group 5"/>
          <p:cNvGrpSpPr/>
          <p:nvPr/>
        </p:nvGrpSpPr>
        <p:grpSpPr>
          <a:xfrm>
            <a:off x="6684840" y="3124080"/>
            <a:ext cx="2213280" cy="1750680"/>
            <a:chOff x="6684840" y="3124080"/>
            <a:chExt cx="2213280" cy="1750680"/>
          </a:xfrm>
        </p:grpSpPr>
        <p:sp>
          <p:nvSpPr>
            <p:cNvPr id="1034" name="Freeform 6"/>
            <p:cNvSpPr/>
            <p:nvPr/>
          </p:nvSpPr>
          <p:spPr>
            <a:xfrm>
              <a:off x="6684840" y="3885120"/>
              <a:ext cx="1265760" cy="98964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AutoShape 7"/>
            <p:cNvSpPr/>
            <p:nvPr/>
          </p:nvSpPr>
          <p:spPr>
            <a:xfrm>
              <a:off x="7985160" y="3124080"/>
              <a:ext cx="91296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z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Line 8"/>
            <p:cNvSpPr/>
            <p:nvPr/>
          </p:nvSpPr>
          <p:spPr>
            <a:xfrm flipH="1">
              <a:off x="7592400" y="3580560"/>
              <a:ext cx="714960" cy="609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 DNS 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038" name="Group 10"/>
          <p:cNvGrpSpPr/>
          <p:nvPr/>
        </p:nvGrpSpPr>
        <p:grpSpPr>
          <a:xfrm>
            <a:off x="1951560" y="2590920"/>
            <a:ext cx="1850040" cy="991800"/>
            <a:chOff x="1951560" y="2590920"/>
            <a:chExt cx="1850040" cy="991800"/>
          </a:xfrm>
        </p:grpSpPr>
        <p:sp>
          <p:nvSpPr>
            <p:cNvPr id="1039" name="Line 11"/>
            <p:cNvSpPr/>
            <p:nvPr/>
          </p:nvSpPr>
          <p:spPr>
            <a:xfrm flipH="1">
              <a:off x="2946240" y="2590920"/>
              <a:ext cx="855360" cy="60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AutoShape 12"/>
            <p:cNvSpPr/>
            <p:nvPr/>
          </p:nvSpPr>
          <p:spPr>
            <a:xfrm>
              <a:off x="1951560" y="3122280"/>
              <a:ext cx="153792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oney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1" name="Group 13"/>
          <p:cNvGrpSpPr/>
          <p:nvPr/>
        </p:nvGrpSpPr>
        <p:grpSpPr>
          <a:xfrm>
            <a:off x="3582360" y="2590920"/>
            <a:ext cx="1216080" cy="1145160"/>
            <a:chOff x="3582360" y="2590920"/>
            <a:chExt cx="1216080" cy="1145160"/>
          </a:xfrm>
        </p:grpSpPr>
        <p:sp>
          <p:nvSpPr>
            <p:cNvPr id="1042" name="Line 14"/>
            <p:cNvSpPr/>
            <p:nvPr/>
          </p:nvSpPr>
          <p:spPr>
            <a:xfrm>
              <a:off x="3798360" y="2590920"/>
              <a:ext cx="351720" cy="53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AutoShape 15"/>
            <p:cNvSpPr/>
            <p:nvPr/>
          </p:nvSpPr>
          <p:spPr>
            <a:xfrm>
              <a:off x="3582360" y="327564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ids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4" name="Group 16"/>
          <p:cNvGrpSpPr/>
          <p:nvPr/>
        </p:nvGrpSpPr>
        <p:grpSpPr>
          <a:xfrm>
            <a:off x="300600" y="3581280"/>
            <a:ext cx="2373480" cy="840960"/>
            <a:chOff x="300600" y="3581280"/>
            <a:chExt cx="2373480" cy="840960"/>
          </a:xfrm>
        </p:grpSpPr>
        <p:sp>
          <p:nvSpPr>
            <p:cNvPr id="1045" name="Line 17"/>
            <p:cNvSpPr/>
            <p:nvPr/>
          </p:nvSpPr>
          <p:spPr>
            <a:xfrm flipH="1">
              <a:off x="1608120" y="3581280"/>
              <a:ext cx="1065960" cy="45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AutoShape 18"/>
            <p:cNvSpPr/>
            <p:nvPr/>
          </p:nvSpPr>
          <p:spPr>
            <a:xfrm>
              <a:off x="300600" y="3961800"/>
              <a:ext cx="21564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rp.money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7" name="Line 19"/>
          <p:cNvSpPr/>
          <p:nvPr/>
        </p:nvSpPr>
        <p:spPr>
          <a:xfrm flipH="1">
            <a:off x="696960" y="4495680"/>
            <a:ext cx="4348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8" name="Group 20"/>
          <p:cNvGrpSpPr/>
          <p:nvPr/>
        </p:nvGrpSpPr>
        <p:grpSpPr>
          <a:xfrm>
            <a:off x="1195560" y="4419720"/>
            <a:ext cx="3496680" cy="1525680"/>
            <a:chOff x="1195560" y="4419720"/>
            <a:chExt cx="3496680" cy="1525680"/>
          </a:xfrm>
        </p:grpSpPr>
        <p:sp>
          <p:nvSpPr>
            <p:cNvPr id="1049" name="AutoShape 21"/>
            <p:cNvSpPr/>
            <p:nvPr/>
          </p:nvSpPr>
          <p:spPr>
            <a:xfrm>
              <a:off x="1610640" y="5484960"/>
              <a:ext cx="3081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ket.corp.money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Line 22"/>
            <p:cNvSpPr/>
            <p:nvPr/>
          </p:nvSpPr>
          <p:spPr>
            <a:xfrm>
              <a:off x="1195560" y="4419720"/>
              <a:ext cx="562680" cy="12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1" name="Group 23"/>
          <p:cNvGrpSpPr/>
          <p:nvPr/>
        </p:nvGrpSpPr>
        <p:grpSpPr>
          <a:xfrm>
            <a:off x="1266840" y="4419720"/>
            <a:ext cx="3726720" cy="991800"/>
            <a:chOff x="1266840" y="4419720"/>
            <a:chExt cx="3726720" cy="991800"/>
          </a:xfrm>
        </p:grpSpPr>
        <p:sp>
          <p:nvSpPr>
            <p:cNvPr id="1052" name="AutoShape 24"/>
            <p:cNvSpPr/>
            <p:nvPr/>
          </p:nvSpPr>
          <p:spPr>
            <a:xfrm>
              <a:off x="1962360" y="4951080"/>
              <a:ext cx="30312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lbert.corp.money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Line 25"/>
            <p:cNvSpPr/>
            <p:nvPr/>
          </p:nvSpPr>
          <p:spPr>
            <a:xfrm>
              <a:off x="1266840" y="4419720"/>
              <a:ext cx="91404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4" name="Group 26"/>
          <p:cNvGrpSpPr/>
          <p:nvPr/>
        </p:nvGrpSpPr>
        <p:grpSpPr>
          <a:xfrm>
            <a:off x="2034720" y="5943600"/>
            <a:ext cx="214560" cy="303120"/>
            <a:chOff x="2034720" y="5943600"/>
            <a:chExt cx="214560" cy="303120"/>
          </a:xfrm>
        </p:grpSpPr>
        <p:sp>
          <p:nvSpPr>
            <p:cNvPr id="1055" name="Line 27"/>
            <p:cNvSpPr/>
            <p:nvPr/>
          </p:nvSpPr>
          <p:spPr>
            <a:xfrm flipH="1">
              <a:off x="2034720" y="5943600"/>
              <a:ext cx="8100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Line 28"/>
            <p:cNvSpPr/>
            <p:nvPr/>
          </p:nvSpPr>
          <p:spPr>
            <a:xfrm>
              <a:off x="2110320" y="5943600"/>
              <a:ext cx="13896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Group 29"/>
          <p:cNvGrpSpPr/>
          <p:nvPr/>
        </p:nvGrpSpPr>
        <p:grpSpPr>
          <a:xfrm>
            <a:off x="5838120" y="3581280"/>
            <a:ext cx="1521000" cy="1602360"/>
            <a:chOff x="5838120" y="3581280"/>
            <a:chExt cx="1521000" cy="1602360"/>
          </a:xfrm>
        </p:grpSpPr>
        <p:sp>
          <p:nvSpPr>
            <p:cNvPr id="1058" name="Line 30"/>
            <p:cNvSpPr/>
            <p:nvPr/>
          </p:nvSpPr>
          <p:spPr>
            <a:xfrm>
              <a:off x="5981400" y="3581280"/>
              <a:ext cx="352080" cy="12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AutoShape 31"/>
            <p:cNvSpPr/>
            <p:nvPr/>
          </p:nvSpPr>
          <p:spPr>
            <a:xfrm>
              <a:off x="5838120" y="4723200"/>
              <a:ext cx="15210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ix.os.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Group 32"/>
          <p:cNvGrpSpPr/>
          <p:nvPr/>
        </p:nvGrpSpPr>
        <p:grpSpPr>
          <a:xfrm>
            <a:off x="5557680" y="3505320"/>
            <a:ext cx="1757520" cy="2063160"/>
            <a:chOff x="5557680" y="3505320"/>
            <a:chExt cx="1757520" cy="2063160"/>
          </a:xfrm>
        </p:grpSpPr>
        <p:sp>
          <p:nvSpPr>
            <p:cNvPr id="1061" name="Line 33"/>
            <p:cNvSpPr/>
            <p:nvPr/>
          </p:nvSpPr>
          <p:spPr>
            <a:xfrm flipH="1">
              <a:off x="5831640" y="3505320"/>
              <a:ext cx="8244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Text Box 34"/>
            <p:cNvSpPr/>
            <p:nvPr/>
          </p:nvSpPr>
          <p:spPr>
            <a:xfrm>
              <a:off x="5557680" y="5108760"/>
              <a:ext cx="17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c.os.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3" name="Group 35"/>
          <p:cNvGrpSpPr/>
          <p:nvPr/>
        </p:nvGrpSpPr>
        <p:grpSpPr>
          <a:xfrm>
            <a:off x="6051600" y="3505320"/>
            <a:ext cx="1857600" cy="1145160"/>
            <a:chOff x="6051600" y="3505320"/>
            <a:chExt cx="1857600" cy="1145160"/>
          </a:xfrm>
        </p:grpSpPr>
        <p:sp>
          <p:nvSpPr>
            <p:cNvPr id="1064" name="AutoShape 36"/>
            <p:cNvSpPr/>
            <p:nvPr/>
          </p:nvSpPr>
          <p:spPr>
            <a:xfrm>
              <a:off x="6693120" y="419004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t.os.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Line 37"/>
            <p:cNvSpPr/>
            <p:nvPr/>
          </p:nvSpPr>
          <p:spPr>
            <a:xfrm>
              <a:off x="6051600" y="3505320"/>
              <a:ext cx="1194120" cy="68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6" name="Group 38"/>
          <p:cNvGrpSpPr/>
          <p:nvPr/>
        </p:nvGrpSpPr>
        <p:grpSpPr>
          <a:xfrm>
            <a:off x="3798720" y="2590920"/>
            <a:ext cx="2670480" cy="916920"/>
            <a:chOff x="3798720" y="2590920"/>
            <a:chExt cx="2670480" cy="916920"/>
          </a:xfrm>
        </p:grpSpPr>
        <p:sp>
          <p:nvSpPr>
            <p:cNvPr id="1067" name="Line 39"/>
            <p:cNvSpPr/>
            <p:nvPr/>
          </p:nvSpPr>
          <p:spPr>
            <a:xfrm>
              <a:off x="3798720" y="2590920"/>
              <a:ext cx="2040120" cy="53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AutoShape 40"/>
            <p:cNvSpPr/>
            <p:nvPr/>
          </p:nvSpPr>
          <p:spPr>
            <a:xfrm>
              <a:off x="5490720" y="3047400"/>
              <a:ext cx="9784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s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9" name="Group 41"/>
          <p:cNvGrpSpPr/>
          <p:nvPr/>
        </p:nvGrpSpPr>
        <p:grpSpPr>
          <a:xfrm>
            <a:off x="3561840" y="1523880"/>
            <a:ext cx="1014120" cy="1069200"/>
            <a:chOff x="3561840" y="1523880"/>
            <a:chExt cx="1014120" cy="1069200"/>
          </a:xfrm>
        </p:grpSpPr>
        <p:sp>
          <p:nvSpPr>
            <p:cNvPr id="1070" name="AutoShape 42"/>
            <p:cNvSpPr/>
            <p:nvPr/>
          </p:nvSpPr>
          <p:spPr>
            <a:xfrm>
              <a:off x="3561840" y="2132640"/>
              <a:ext cx="631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Line 43"/>
            <p:cNvSpPr/>
            <p:nvPr/>
          </p:nvSpPr>
          <p:spPr>
            <a:xfrm flipH="1">
              <a:off x="3931920" y="1523880"/>
              <a:ext cx="64404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Group 44"/>
          <p:cNvGrpSpPr/>
          <p:nvPr/>
        </p:nvGrpSpPr>
        <p:grpSpPr>
          <a:xfrm>
            <a:off x="4573440" y="1523880"/>
            <a:ext cx="1668240" cy="1069200"/>
            <a:chOff x="4573440" y="1523880"/>
            <a:chExt cx="1668240" cy="1069200"/>
          </a:xfrm>
        </p:grpSpPr>
        <p:sp>
          <p:nvSpPr>
            <p:cNvPr id="1073" name="AutoShape 45"/>
            <p:cNvSpPr/>
            <p:nvPr/>
          </p:nvSpPr>
          <p:spPr>
            <a:xfrm>
              <a:off x="5458320" y="2132640"/>
              <a:ext cx="7833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Line 46"/>
            <p:cNvSpPr/>
            <p:nvPr/>
          </p:nvSpPr>
          <p:spPr>
            <a:xfrm>
              <a:off x="4573440" y="1523880"/>
              <a:ext cx="1266840" cy="60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Group 47"/>
          <p:cNvGrpSpPr/>
          <p:nvPr/>
        </p:nvGrpSpPr>
        <p:grpSpPr>
          <a:xfrm>
            <a:off x="6191280" y="2362320"/>
            <a:ext cx="1406520" cy="531360"/>
            <a:chOff x="6191280" y="2362320"/>
            <a:chExt cx="1406520" cy="531360"/>
          </a:xfrm>
        </p:grpSpPr>
        <p:sp>
          <p:nvSpPr>
            <p:cNvPr id="1076" name="Line 48"/>
            <p:cNvSpPr/>
            <p:nvPr/>
          </p:nvSpPr>
          <p:spPr>
            <a:xfrm>
              <a:off x="6191280" y="2362320"/>
              <a:ext cx="1406520" cy="15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Line 49"/>
            <p:cNvSpPr/>
            <p:nvPr/>
          </p:nvSpPr>
          <p:spPr>
            <a:xfrm>
              <a:off x="6191280" y="2437920"/>
              <a:ext cx="126540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Group 50"/>
          <p:cNvGrpSpPr/>
          <p:nvPr/>
        </p:nvGrpSpPr>
        <p:grpSpPr>
          <a:xfrm>
            <a:off x="3428640" y="3733920"/>
            <a:ext cx="2293560" cy="1220040"/>
            <a:chOff x="3428640" y="3733920"/>
            <a:chExt cx="2293560" cy="1220040"/>
          </a:xfrm>
        </p:grpSpPr>
        <p:sp>
          <p:nvSpPr>
            <p:cNvPr id="1079" name="AutoShape 51"/>
            <p:cNvSpPr/>
            <p:nvPr/>
          </p:nvSpPr>
          <p:spPr>
            <a:xfrm>
              <a:off x="3428640" y="4493520"/>
              <a:ext cx="22935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nick.kids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Line 52"/>
            <p:cNvSpPr/>
            <p:nvPr/>
          </p:nvSpPr>
          <p:spPr>
            <a:xfrm>
              <a:off x="4080600" y="3733920"/>
              <a:ext cx="491760" cy="83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1" name="Group 53"/>
          <p:cNvGrpSpPr/>
          <p:nvPr/>
        </p:nvGrpSpPr>
        <p:grpSpPr>
          <a:xfrm>
            <a:off x="2658240" y="3733920"/>
            <a:ext cx="1749600" cy="840240"/>
            <a:chOff x="2658240" y="3733920"/>
            <a:chExt cx="1749600" cy="840240"/>
          </a:xfrm>
        </p:grpSpPr>
        <p:sp>
          <p:nvSpPr>
            <p:cNvPr id="1082" name="AutoShape 54"/>
            <p:cNvSpPr/>
            <p:nvPr/>
          </p:nvSpPr>
          <p:spPr>
            <a:xfrm>
              <a:off x="2658240" y="4113720"/>
              <a:ext cx="1749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op.kids.ne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Line 55"/>
            <p:cNvSpPr/>
            <p:nvPr/>
          </p:nvSpPr>
          <p:spPr>
            <a:xfrm flipH="1">
              <a:off x="3651840" y="3733920"/>
              <a:ext cx="434160" cy="45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4" name="AutoShape 56"/>
          <p:cNvSpPr/>
          <p:nvPr/>
        </p:nvSpPr>
        <p:spPr>
          <a:xfrm>
            <a:off x="4424760" y="1066680"/>
            <a:ext cx="257760" cy="460440"/>
          </a:xfrm>
          <a:custGeom>
            <a:avLst/>
            <a:gdLst>
              <a:gd name="textAreaLeft" fmla="*/ 360 w 257760"/>
              <a:gd name="textAreaRight" fmla="*/ 257400 w 25776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38561">
                <a:moveTo>
                  <a:pt x="142" y="0"/>
                </a:moveTo>
                <a:arcTo wR="142" hR="142" stAng="16200000" swAng="-5400000"/>
                <a:lnTo>
                  <a:pt x="0" y="38419"/>
                </a:lnTo>
                <a:arcTo wR="142" hR="142" stAng="10800000" swAng="-5400000"/>
                <a:lnTo>
                  <a:pt x="21458" y="38561"/>
                </a:lnTo>
                <a:arcTo wR="142" hR="142" stAng="5400000" swAng="-5400000"/>
                <a:lnTo>
                  <a:pt x="21600" y="142"/>
                </a:lnTo>
                <a:arcTo wR="142" hR="14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Process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56920" y="1541160"/>
            <a:ext cx="3848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Host xyz.iitb.ernet.in wants IP address of www.ibm.com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tacts its local DNS server, dns.i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.iitb.ernet.in contacts root name server, if necessary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oot name server sends the the authoritative name server address to local name server if necessary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Char char="•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asks the authoritative name server dns.ibm.com for the IP address of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ibm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and gets i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sends the IP address to the host xyz.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7" name="AutoShape 3"/>
          <p:cNvSpPr/>
          <p:nvPr/>
        </p:nvSpPr>
        <p:spPr>
          <a:xfrm>
            <a:off x="4195080" y="4648320"/>
            <a:ext cx="225396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z.iitb.ernet.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AutoShape 4"/>
          <p:cNvSpPr/>
          <p:nvPr/>
        </p:nvSpPr>
        <p:spPr>
          <a:xfrm>
            <a:off x="6708600" y="4844880"/>
            <a:ext cx="152244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ww.ibm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9" name="Group 5"/>
          <p:cNvGrpSpPr/>
          <p:nvPr/>
        </p:nvGrpSpPr>
        <p:grpSpPr>
          <a:xfrm>
            <a:off x="5265720" y="2570040"/>
            <a:ext cx="372600" cy="655560"/>
            <a:chOff x="5265720" y="2570040"/>
            <a:chExt cx="372600" cy="655560"/>
          </a:xfrm>
        </p:grpSpPr>
        <p:sp>
          <p:nvSpPr>
            <p:cNvPr id="1090" name="Freeform 6"/>
            <p:cNvSpPr/>
            <p:nvPr/>
          </p:nvSpPr>
          <p:spPr>
            <a:xfrm>
              <a:off x="5265720" y="3073680"/>
              <a:ext cx="366840" cy="15192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AutoShape 7"/>
            <p:cNvSpPr/>
            <p:nvPr/>
          </p:nvSpPr>
          <p:spPr>
            <a:xfrm>
              <a:off x="5451120" y="2574720"/>
              <a:ext cx="168120" cy="503280"/>
            </a:xfrm>
            <a:custGeom>
              <a:avLst/>
              <a:gdLst>
                <a:gd name="textAreaLeft" fmla="*/ 360 w 168120"/>
                <a:gd name="textAreaRight" fmla="*/ 167760 w 168120"/>
                <a:gd name="textAreaTop" fmla="*/ 360 h 503280"/>
                <a:gd name="textAreaBottom" fmla="*/ 502920 h 503280"/>
              </a:gdLst>
              <a:ahLst/>
              <a:rect l="textAreaLeft" t="textAreaTop" r="textAreaRight" b="textAreaBottom"/>
              <a:pathLst>
                <a:path w="21600" h="64569">
                  <a:moveTo>
                    <a:pt x="203" y="0"/>
                  </a:moveTo>
                  <a:arcTo wR="203" hR="203" stAng="16200000" swAng="-5400000"/>
                  <a:lnTo>
                    <a:pt x="0" y="64366"/>
                  </a:lnTo>
                  <a:arcTo wR="203" hR="203" stAng="10800000" swAng="-5400000"/>
                  <a:lnTo>
                    <a:pt x="21397" y="645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AutoShape 8"/>
            <p:cNvSpPr/>
            <p:nvPr/>
          </p:nvSpPr>
          <p:spPr>
            <a:xfrm>
              <a:off x="5266800" y="2717280"/>
              <a:ext cx="232920" cy="503640"/>
            </a:xfrm>
            <a:custGeom>
              <a:avLst/>
              <a:gdLst>
                <a:gd name="textAreaLeft" fmla="*/ 360 w 232920"/>
                <a:gd name="textAreaRight" fmla="*/ 232560 w 232920"/>
                <a:gd name="textAreaTop" fmla="*/ 360 h 503640"/>
                <a:gd name="textAreaBottom" fmla="*/ 503280 h 503640"/>
              </a:gdLst>
              <a:ahLst/>
              <a:rect l="textAreaLeft" t="textAreaTop" r="textAreaRight" b="textAreaBottom"/>
              <a:pathLst>
                <a:path w="21600" h="46667">
                  <a:moveTo>
                    <a:pt x="145" y="0"/>
                  </a:moveTo>
                  <a:arcTo wR="145" hR="145" stAng="16200000" swAng="-5400000"/>
                  <a:lnTo>
                    <a:pt x="0" y="46522"/>
                  </a:lnTo>
                  <a:arcTo wR="145" hR="145" stAng="10800000" swAng="-5400000"/>
                  <a:lnTo>
                    <a:pt x="21455" y="46667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Freeform 9"/>
            <p:cNvSpPr/>
            <p:nvPr/>
          </p:nvSpPr>
          <p:spPr>
            <a:xfrm>
              <a:off x="5265720" y="2570040"/>
              <a:ext cx="366840" cy="15228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Line 10"/>
            <p:cNvSpPr/>
            <p:nvPr/>
          </p:nvSpPr>
          <p:spPr>
            <a:xfrm>
              <a:off x="5632560" y="2580840"/>
              <a:ext cx="1080" cy="49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Line 11"/>
            <p:cNvSpPr/>
            <p:nvPr/>
          </p:nvSpPr>
          <p:spPr>
            <a:xfrm flipH="1">
              <a:off x="5493600" y="3073680"/>
              <a:ext cx="14472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AutoShape 12"/>
            <p:cNvSpPr/>
            <p:nvPr/>
          </p:nvSpPr>
          <p:spPr>
            <a:xfrm>
              <a:off x="5297040" y="2783880"/>
              <a:ext cx="154080" cy="291240"/>
            </a:xfrm>
            <a:custGeom>
              <a:avLst/>
              <a:gdLst>
                <a:gd name="textAreaLeft" fmla="*/ 360 w 154080"/>
                <a:gd name="textAreaRight" fmla="*/ 153720 w 154080"/>
                <a:gd name="textAreaTop" fmla="*/ 360 h 291240"/>
                <a:gd name="textAreaBottom" fmla="*/ 290880 h 291240"/>
              </a:gdLst>
              <a:ahLst/>
              <a:rect l="textAreaLeft" t="textAreaTop" r="textAreaRight" b="textAreaBottom"/>
              <a:pathLst>
                <a:path w="21600" h="40783">
                  <a:moveTo>
                    <a:pt x="220" y="0"/>
                  </a:moveTo>
                  <a:arcTo wR="220" hR="220" stAng="16200000" swAng="-5400000"/>
                  <a:lnTo>
                    <a:pt x="0" y="40563"/>
                  </a:lnTo>
                  <a:arcTo wR="220" hR="220" stAng="10800000" swAng="-5400000"/>
                  <a:lnTo>
                    <a:pt x="21380" y="40783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AutoShape 13"/>
            <p:cNvSpPr/>
            <p:nvPr/>
          </p:nvSpPr>
          <p:spPr>
            <a:xfrm>
              <a:off x="5319000" y="2871000"/>
              <a:ext cx="118080" cy="10296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8" name="Text Box 14"/>
          <p:cNvSpPr/>
          <p:nvPr/>
        </p:nvSpPr>
        <p:spPr>
          <a:xfrm>
            <a:off x="5791320" y="736560"/>
            <a:ext cx="20113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6518880" y="3408480"/>
            <a:ext cx="2653200" cy="5738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ns.ibm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Line 16"/>
          <p:cNvSpPr/>
          <p:nvPr/>
        </p:nvSpPr>
        <p:spPr>
          <a:xfrm flipV="1">
            <a:off x="5315040" y="3250800"/>
            <a:ext cx="1440" cy="1327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Line 17"/>
          <p:cNvSpPr/>
          <p:nvPr/>
        </p:nvSpPr>
        <p:spPr>
          <a:xfrm flipV="1">
            <a:off x="5429160" y="1555920"/>
            <a:ext cx="914400" cy="98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Line 18"/>
          <p:cNvSpPr/>
          <p:nvPr/>
        </p:nvSpPr>
        <p:spPr>
          <a:xfrm>
            <a:off x="6734160" y="174312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Line 19"/>
          <p:cNvSpPr/>
          <p:nvPr/>
        </p:nvSpPr>
        <p:spPr>
          <a:xfrm flipH="1" flipV="1">
            <a:off x="6813720" y="1565280"/>
            <a:ext cx="660240" cy="946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Line 20"/>
          <p:cNvSpPr/>
          <p:nvPr/>
        </p:nvSpPr>
        <p:spPr>
          <a:xfrm flipH="1">
            <a:off x="5613480" y="1771560"/>
            <a:ext cx="7459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Line 21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6" name="Group 22"/>
          <p:cNvGrpSpPr/>
          <p:nvPr/>
        </p:nvGrpSpPr>
        <p:grpSpPr>
          <a:xfrm>
            <a:off x="4314960" y="3384720"/>
            <a:ext cx="2253960" cy="604080"/>
            <a:chOff x="4314960" y="3384720"/>
            <a:chExt cx="2253960" cy="604080"/>
          </a:xfrm>
        </p:grpSpPr>
        <p:sp>
          <p:nvSpPr>
            <p:cNvPr id="1107" name="AutoShape 23"/>
            <p:cNvSpPr/>
            <p:nvPr/>
          </p:nvSpPr>
          <p:spPr>
            <a:xfrm>
              <a:off x="4505040" y="3457080"/>
              <a:ext cx="1874880" cy="474840"/>
            </a:xfrm>
            <a:prstGeom prst="roundRect">
              <a:avLst>
                <a:gd name="adj" fmla="val 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AutoShape 24"/>
            <p:cNvSpPr/>
            <p:nvPr/>
          </p:nvSpPr>
          <p:spPr>
            <a:xfrm>
              <a:off x="4314960" y="3384720"/>
              <a:ext cx="2253960" cy="60408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dns.iitb.ernet.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9" name="AutoShape 25"/>
          <p:cNvSpPr/>
          <p:nvPr/>
        </p:nvSpPr>
        <p:spPr>
          <a:xfrm>
            <a:off x="5028480" y="41133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557136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6714360" y="2027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AutoShape 28"/>
          <p:cNvSpPr/>
          <p:nvPr/>
        </p:nvSpPr>
        <p:spPr>
          <a:xfrm>
            <a:off x="709560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AutoShape 29"/>
          <p:cNvSpPr/>
          <p:nvPr/>
        </p:nvSpPr>
        <p:spPr>
          <a:xfrm>
            <a:off x="5942880" y="2103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AutoShape 30"/>
          <p:cNvSpPr/>
          <p:nvPr/>
        </p:nvSpPr>
        <p:spPr>
          <a:xfrm>
            <a:off x="5562000" y="4151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5" name="Group 31"/>
          <p:cNvGrpSpPr/>
          <p:nvPr/>
        </p:nvGrpSpPr>
        <p:grpSpPr>
          <a:xfrm>
            <a:off x="6380280" y="1150920"/>
            <a:ext cx="372600" cy="655200"/>
            <a:chOff x="6380280" y="1150920"/>
            <a:chExt cx="372600" cy="655200"/>
          </a:xfrm>
        </p:grpSpPr>
        <p:sp>
          <p:nvSpPr>
            <p:cNvPr id="1116" name="Freeform 32"/>
            <p:cNvSpPr/>
            <p:nvPr/>
          </p:nvSpPr>
          <p:spPr>
            <a:xfrm>
              <a:off x="6380280" y="1654200"/>
              <a:ext cx="366480" cy="15192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AutoShape 33"/>
            <p:cNvSpPr/>
            <p:nvPr/>
          </p:nvSpPr>
          <p:spPr>
            <a:xfrm>
              <a:off x="6565680" y="1155240"/>
              <a:ext cx="168120" cy="503640"/>
            </a:xfrm>
            <a:custGeom>
              <a:avLst/>
              <a:gdLst>
                <a:gd name="textAreaLeft" fmla="*/ 360 w 168120"/>
                <a:gd name="textAreaRight" fmla="*/ 167760 w 168120"/>
                <a:gd name="textAreaTop" fmla="*/ 360 h 503640"/>
                <a:gd name="textAreaBottom" fmla="*/ 503280 h 503640"/>
              </a:gdLst>
              <a:ahLst/>
              <a:rect l="textAreaLeft" t="textAreaTop" r="textAreaRight" b="textAreaBottom"/>
              <a:pathLst>
                <a:path w="21600" h="64615">
                  <a:moveTo>
                    <a:pt x="203" y="0"/>
                  </a:moveTo>
                  <a:arcTo wR="203" hR="203" stAng="16200000" swAng="-5400000"/>
                  <a:lnTo>
                    <a:pt x="0" y="64412"/>
                  </a:lnTo>
                  <a:arcTo wR="203" hR="203" stAng="10800000" swAng="-5400000"/>
                  <a:lnTo>
                    <a:pt x="21397" y="64615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AutoShape 34"/>
            <p:cNvSpPr/>
            <p:nvPr/>
          </p:nvSpPr>
          <p:spPr>
            <a:xfrm>
              <a:off x="6381360" y="1297800"/>
              <a:ext cx="232920" cy="503280"/>
            </a:xfrm>
            <a:custGeom>
              <a:avLst/>
              <a:gdLst>
                <a:gd name="textAreaLeft" fmla="*/ 360 w 232920"/>
                <a:gd name="textAreaRight" fmla="*/ 232560 w 232920"/>
                <a:gd name="textAreaTop" fmla="*/ 360 h 503280"/>
                <a:gd name="textAreaBottom" fmla="*/ 502920 h 503280"/>
              </a:gdLst>
              <a:ahLst/>
              <a:rect l="textAreaLeft" t="textAreaTop" r="textAreaRight" b="textAreaBottom"/>
              <a:pathLst>
                <a:path w="21600" h="46633">
                  <a:moveTo>
                    <a:pt x="145" y="0"/>
                  </a:moveTo>
                  <a:arcTo wR="145" hR="145" stAng="16200000" swAng="-5400000"/>
                  <a:lnTo>
                    <a:pt x="0" y="46488"/>
                  </a:lnTo>
                  <a:arcTo wR="145" hR="145" stAng="10800000" swAng="-5400000"/>
                  <a:lnTo>
                    <a:pt x="21455" y="46633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Freeform 35"/>
            <p:cNvSpPr/>
            <p:nvPr/>
          </p:nvSpPr>
          <p:spPr>
            <a:xfrm>
              <a:off x="6380280" y="1150920"/>
              <a:ext cx="366480" cy="15156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Line 36"/>
            <p:cNvSpPr/>
            <p:nvPr/>
          </p:nvSpPr>
          <p:spPr>
            <a:xfrm>
              <a:off x="6746760" y="1161720"/>
              <a:ext cx="144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Line 37"/>
            <p:cNvSpPr/>
            <p:nvPr/>
          </p:nvSpPr>
          <p:spPr>
            <a:xfrm flipH="1">
              <a:off x="6608160" y="1654200"/>
              <a:ext cx="14472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AutoShape 38"/>
            <p:cNvSpPr/>
            <p:nvPr/>
          </p:nvSpPr>
          <p:spPr>
            <a:xfrm>
              <a:off x="6411600" y="1364400"/>
              <a:ext cx="154080" cy="291240"/>
            </a:xfrm>
            <a:custGeom>
              <a:avLst/>
              <a:gdLst>
                <a:gd name="textAreaLeft" fmla="*/ 360 w 154080"/>
                <a:gd name="textAreaRight" fmla="*/ 153720 w 154080"/>
                <a:gd name="textAreaTop" fmla="*/ 360 h 291240"/>
                <a:gd name="textAreaBottom" fmla="*/ 290880 h 291240"/>
              </a:gdLst>
              <a:ahLst/>
              <a:rect l="textAreaLeft" t="textAreaTop" r="textAreaRight" b="textAreaBottom"/>
              <a:pathLst>
                <a:path w="21600" h="40783">
                  <a:moveTo>
                    <a:pt x="220" y="0"/>
                  </a:moveTo>
                  <a:arcTo wR="220" hR="220" stAng="16200000" swAng="-5400000"/>
                  <a:lnTo>
                    <a:pt x="0" y="40563"/>
                  </a:lnTo>
                  <a:arcTo wR="220" hR="220" stAng="10800000" swAng="-5400000"/>
                  <a:lnTo>
                    <a:pt x="21380" y="40783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AutoShape 39"/>
            <p:cNvSpPr/>
            <p:nvPr/>
          </p:nvSpPr>
          <p:spPr>
            <a:xfrm>
              <a:off x="6433560" y="1451520"/>
              <a:ext cx="117720" cy="10296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209000" y="2579760"/>
            <a:ext cx="372600" cy="655200"/>
            <a:chOff x="7209000" y="2579760"/>
            <a:chExt cx="372600" cy="655200"/>
          </a:xfrm>
        </p:grpSpPr>
        <p:sp>
          <p:nvSpPr>
            <p:cNvPr id="1125" name="Freeform 41"/>
            <p:cNvSpPr/>
            <p:nvPr/>
          </p:nvSpPr>
          <p:spPr>
            <a:xfrm>
              <a:off x="7209000" y="3083040"/>
              <a:ext cx="366480" cy="15192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AutoShape 42"/>
            <p:cNvSpPr/>
            <p:nvPr/>
          </p:nvSpPr>
          <p:spPr>
            <a:xfrm>
              <a:off x="7394400" y="2584080"/>
              <a:ext cx="168120" cy="503280"/>
            </a:xfrm>
            <a:custGeom>
              <a:avLst/>
              <a:gdLst>
                <a:gd name="textAreaLeft" fmla="*/ 360 w 168120"/>
                <a:gd name="textAreaRight" fmla="*/ 167760 w 168120"/>
                <a:gd name="textAreaTop" fmla="*/ 360 h 503280"/>
                <a:gd name="textAreaBottom" fmla="*/ 502920 h 503280"/>
              </a:gdLst>
              <a:ahLst/>
              <a:rect l="textAreaLeft" t="textAreaTop" r="textAreaRight" b="textAreaBottom"/>
              <a:pathLst>
                <a:path w="21600" h="64569">
                  <a:moveTo>
                    <a:pt x="203" y="0"/>
                  </a:moveTo>
                  <a:arcTo wR="203" hR="203" stAng="16200000" swAng="-5400000"/>
                  <a:lnTo>
                    <a:pt x="0" y="64366"/>
                  </a:lnTo>
                  <a:arcTo wR="203" hR="203" stAng="10800000" swAng="-5400000"/>
                  <a:lnTo>
                    <a:pt x="21397" y="645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AutoShape 43"/>
            <p:cNvSpPr/>
            <p:nvPr/>
          </p:nvSpPr>
          <p:spPr>
            <a:xfrm>
              <a:off x="7210080" y="2727000"/>
              <a:ext cx="232920" cy="503280"/>
            </a:xfrm>
            <a:custGeom>
              <a:avLst/>
              <a:gdLst>
                <a:gd name="textAreaLeft" fmla="*/ 360 w 232920"/>
                <a:gd name="textAreaRight" fmla="*/ 232560 w 232920"/>
                <a:gd name="textAreaTop" fmla="*/ 360 h 503280"/>
                <a:gd name="textAreaBottom" fmla="*/ 502920 h 503280"/>
              </a:gdLst>
              <a:ahLst/>
              <a:rect l="textAreaLeft" t="textAreaTop" r="textAreaRight" b="textAreaBottom"/>
              <a:pathLst>
                <a:path w="21600" h="46633">
                  <a:moveTo>
                    <a:pt x="145" y="0"/>
                  </a:moveTo>
                  <a:arcTo wR="145" hR="145" stAng="16200000" swAng="-5400000"/>
                  <a:lnTo>
                    <a:pt x="0" y="46488"/>
                  </a:lnTo>
                  <a:arcTo wR="145" hR="145" stAng="10800000" swAng="-5400000"/>
                  <a:lnTo>
                    <a:pt x="21455" y="46633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Freeform 44"/>
            <p:cNvSpPr/>
            <p:nvPr/>
          </p:nvSpPr>
          <p:spPr>
            <a:xfrm>
              <a:off x="7209000" y="2579760"/>
              <a:ext cx="366480" cy="15192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Line 45"/>
            <p:cNvSpPr/>
            <p:nvPr/>
          </p:nvSpPr>
          <p:spPr>
            <a:xfrm>
              <a:off x="7575480" y="2590560"/>
              <a:ext cx="108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Line 46"/>
            <p:cNvSpPr/>
            <p:nvPr/>
          </p:nvSpPr>
          <p:spPr>
            <a:xfrm flipH="1">
              <a:off x="7436880" y="3083040"/>
              <a:ext cx="14472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AutoShape 47"/>
            <p:cNvSpPr/>
            <p:nvPr/>
          </p:nvSpPr>
          <p:spPr>
            <a:xfrm>
              <a:off x="7240320" y="2793240"/>
              <a:ext cx="154080" cy="289800"/>
            </a:xfrm>
            <a:custGeom>
              <a:avLst/>
              <a:gdLst>
                <a:gd name="textAreaLeft" fmla="*/ 360 w 154080"/>
                <a:gd name="textAreaRight" fmla="*/ 153720 w 154080"/>
                <a:gd name="textAreaTop" fmla="*/ 360 h 289800"/>
                <a:gd name="textAreaBottom" fmla="*/ 289440 h 289800"/>
              </a:gdLst>
              <a:ahLst/>
              <a:rect l="textAreaLeft" t="textAreaTop" r="textAreaRight" b="textAreaBottom"/>
              <a:pathLst>
                <a:path w="21600" h="40582">
                  <a:moveTo>
                    <a:pt x="220" y="0"/>
                  </a:moveTo>
                  <a:arcTo wR="220" hR="220" stAng="16200000" swAng="-5400000"/>
                  <a:lnTo>
                    <a:pt x="0" y="40362"/>
                  </a:lnTo>
                  <a:arcTo wR="220" hR="220" stAng="10800000" swAng="-5400000"/>
                  <a:lnTo>
                    <a:pt x="21380" y="40582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AutoShape 48"/>
            <p:cNvSpPr/>
            <p:nvPr/>
          </p:nvSpPr>
          <p:spPr>
            <a:xfrm>
              <a:off x="7261920" y="2880720"/>
              <a:ext cx="118080" cy="10260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Line 49"/>
          <p:cNvSpPr/>
          <p:nvPr/>
        </p:nvSpPr>
        <p:spPr>
          <a:xfrm>
            <a:off x="7391520" y="4038480"/>
            <a:ext cx="9360" cy="7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 näitel (klient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välja faile serverarvutist ja veidi lisainfi (HTTP päi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asub TCP pordil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% telnet deepthought.ttu.ee 8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takse nimeserverilt “deepthought.ttu.ee” IP aadres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meserver teeb DNS protokolliga rekursiivse otsin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tulemuse 193.40.254.179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loob TCP ühend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erveeritakse kohalik TCP po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etakse serverile TCP ühenduse avamise kuts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võr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lnet saadab päringu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TCP paketti sisaldav IP data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 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rsruutimistabelist selgub, et tuleb kasutada vaikimisi marsruutimisreeglit (Näiteks: 192.168.0.1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RP abil tehakse kindlaks selle Etherneti aadres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üldlevi aadressil küsimus 192.168.0.1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akse vastus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Etherneti kaader aadressil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odatakse kuni Etherneti võrk on vab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kaader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2.168.0.1-s ja teistes marsruuterites korratakse marsruutimisprotseduur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serv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IP kiht annab datagrammi andmeosa edasi TCP kih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TCP kiht annab pordi numbri järgi andmeosa edasi http serveri-programm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 töötleb päringut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saadab vastuse ja lõpetab TCP ühend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dub protseduur läbi TCP, IP ja Etherne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 perekon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1142" name="Object 3"/>
          <p:cNvGraphicFramePr/>
          <p:nvPr/>
        </p:nvGraphicFramePr>
        <p:xfrm>
          <a:off x="2590920" y="1447920"/>
          <a:ext cx="397008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447920"/>
                    <a:ext cx="39700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eth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838080" y="604800"/>
            <a:ext cx="7770600" cy="309600"/>
            <a:chOff x="838080" y="604800"/>
            <a:chExt cx="7770600" cy="309600"/>
          </a:xfrm>
        </p:grpSpPr>
        <p:sp>
          <p:nvSpPr>
            <p:cNvPr id="84" name="Line 4"/>
            <p:cNvSpPr/>
            <p:nvPr/>
          </p:nvSpPr>
          <p:spPr>
            <a:xfrm>
              <a:off x="838080" y="909720"/>
              <a:ext cx="7769520" cy="10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 flipV="1">
              <a:off x="8607600" y="604800"/>
              <a:ext cx="108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6"/>
          <p:cNvGrpSpPr/>
          <p:nvPr/>
        </p:nvGrpSpPr>
        <p:grpSpPr>
          <a:xfrm>
            <a:off x="2438280" y="2971800"/>
            <a:ext cx="298440" cy="303120"/>
            <a:chOff x="2438280" y="2971800"/>
            <a:chExt cx="298440" cy="303120"/>
          </a:xfrm>
        </p:grpSpPr>
        <p:sp>
          <p:nvSpPr>
            <p:cNvPr id="87" name="Freeform 7"/>
            <p:cNvSpPr/>
            <p:nvPr/>
          </p:nvSpPr>
          <p:spPr>
            <a:xfrm>
              <a:off x="2438280" y="297180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2438280" y="2971800"/>
              <a:ext cx="298440" cy="7380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2662560" y="297180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2438280" y="1905120"/>
            <a:ext cx="298440" cy="303120"/>
            <a:chOff x="2438280" y="1905120"/>
            <a:chExt cx="298440" cy="303120"/>
          </a:xfrm>
        </p:grpSpPr>
        <p:sp>
          <p:nvSpPr>
            <p:cNvPr id="91" name="Freeform 11"/>
            <p:cNvSpPr/>
            <p:nvPr/>
          </p:nvSpPr>
          <p:spPr>
            <a:xfrm>
              <a:off x="2438280" y="19051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2438280" y="19051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2662560" y="190512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Group 14"/>
          <p:cNvGrpSpPr/>
          <p:nvPr/>
        </p:nvGrpSpPr>
        <p:grpSpPr>
          <a:xfrm>
            <a:off x="4038480" y="2362320"/>
            <a:ext cx="298440" cy="303120"/>
            <a:chOff x="4038480" y="2362320"/>
            <a:chExt cx="298440" cy="303120"/>
          </a:xfrm>
        </p:grpSpPr>
        <p:sp>
          <p:nvSpPr>
            <p:cNvPr id="95" name="Freeform 15"/>
            <p:cNvSpPr/>
            <p:nvPr/>
          </p:nvSpPr>
          <p:spPr>
            <a:xfrm>
              <a:off x="4038480" y="2362320"/>
              <a:ext cx="298440" cy="303120"/>
            </a:xfrm>
            <a:prstGeom prst="pie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4038480" y="2362320"/>
              <a:ext cx="298440" cy="74160"/>
            </a:xfrm>
            <a:prstGeom prst="pie">
              <a:avLst/>
            </a:prstGeom>
            <a:solidFill>
              <a:srgbClr val="ff6f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4262760" y="2362320"/>
              <a:ext cx="73800" cy="303120"/>
            </a:xfrm>
            <a:prstGeom prst="pie">
              <a:avLst/>
            </a:prstGeom>
            <a:solidFill>
              <a:srgbClr val="db57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Group 18"/>
          <p:cNvGrpSpPr/>
          <p:nvPr/>
        </p:nvGrpSpPr>
        <p:grpSpPr>
          <a:xfrm>
            <a:off x="5715000" y="2895480"/>
            <a:ext cx="298440" cy="303480"/>
            <a:chOff x="5715000" y="2895480"/>
            <a:chExt cx="298440" cy="303480"/>
          </a:xfrm>
        </p:grpSpPr>
        <p:sp>
          <p:nvSpPr>
            <p:cNvPr id="99" name="Freeform 19"/>
            <p:cNvSpPr/>
            <p:nvPr/>
          </p:nvSpPr>
          <p:spPr>
            <a:xfrm>
              <a:off x="5715000" y="2895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5715000" y="2895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5938920" y="28954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Group 22"/>
          <p:cNvGrpSpPr/>
          <p:nvPr/>
        </p:nvGrpSpPr>
        <p:grpSpPr>
          <a:xfrm>
            <a:off x="3962520" y="1295280"/>
            <a:ext cx="298440" cy="303480"/>
            <a:chOff x="3962520" y="1295280"/>
            <a:chExt cx="298440" cy="303480"/>
          </a:xfrm>
        </p:grpSpPr>
        <p:sp>
          <p:nvSpPr>
            <p:cNvPr id="103" name="Freeform 23"/>
            <p:cNvSpPr/>
            <p:nvPr/>
          </p:nvSpPr>
          <p:spPr>
            <a:xfrm>
              <a:off x="3962520" y="12952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3962520" y="12952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4186440" y="1295280"/>
              <a:ext cx="7416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Group 26"/>
          <p:cNvGrpSpPr/>
          <p:nvPr/>
        </p:nvGrpSpPr>
        <p:grpSpPr>
          <a:xfrm>
            <a:off x="4038480" y="3505320"/>
            <a:ext cx="298440" cy="303120"/>
            <a:chOff x="4038480" y="3505320"/>
            <a:chExt cx="298440" cy="303120"/>
          </a:xfrm>
        </p:grpSpPr>
        <p:sp>
          <p:nvSpPr>
            <p:cNvPr id="107" name="Freeform 27"/>
            <p:cNvSpPr/>
            <p:nvPr/>
          </p:nvSpPr>
          <p:spPr>
            <a:xfrm>
              <a:off x="4038480" y="3505320"/>
              <a:ext cx="298440" cy="30312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4038480" y="3505320"/>
              <a:ext cx="298440" cy="7416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4262760" y="3505320"/>
              <a:ext cx="73800" cy="30312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111" name="Freeform 31"/>
            <p:cNvSpPr/>
            <p:nvPr/>
          </p:nvSpPr>
          <p:spPr>
            <a:xfrm>
              <a:off x="5867280" y="1752480"/>
              <a:ext cx="298440" cy="3034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5867280" y="1752480"/>
              <a:ext cx="298440" cy="7452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6091560" y="1752480"/>
              <a:ext cx="73800" cy="3034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Line 34"/>
          <p:cNvSpPr/>
          <p:nvPr/>
        </p:nvSpPr>
        <p:spPr>
          <a:xfrm flipV="1">
            <a:off x="2743200" y="2507760"/>
            <a:ext cx="129528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35"/>
          <p:cNvSpPr/>
          <p:nvPr/>
        </p:nvSpPr>
        <p:spPr>
          <a:xfrm flipV="1">
            <a:off x="6172200" y="1517760"/>
            <a:ext cx="1143000" cy="24120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7086600" y="1523880"/>
            <a:ext cx="18622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th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C a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8 bitine ar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37"/>
          <p:cNvSpPr/>
          <p:nvPr/>
        </p:nvSpPr>
        <p:spPr>
          <a:xfrm flipV="1">
            <a:off x="4343400" y="1898280"/>
            <a:ext cx="15238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38"/>
          <p:cNvSpPr/>
          <p:nvPr/>
        </p:nvSpPr>
        <p:spPr>
          <a:xfrm flipV="1">
            <a:off x="4191120" y="2660400"/>
            <a:ext cx="144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39"/>
          <p:cNvSpPr/>
          <p:nvPr/>
        </p:nvSpPr>
        <p:spPr>
          <a:xfrm flipH="1" flipV="1">
            <a:off x="4336560" y="2507760"/>
            <a:ext cx="146052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0"/>
          <p:cNvSpPr/>
          <p:nvPr/>
        </p:nvSpPr>
        <p:spPr>
          <a:xfrm flipH="1" flipV="1">
            <a:off x="2736720" y="2050920"/>
            <a:ext cx="130824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1"/>
          <p:cNvSpPr/>
          <p:nvPr/>
        </p:nvSpPr>
        <p:spPr>
          <a:xfrm flipV="1">
            <a:off x="4191120" y="1593720"/>
            <a:ext cx="144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42"/>
          <p:cNvSpPr/>
          <p:nvPr/>
        </p:nvSpPr>
        <p:spPr>
          <a:xfrm>
            <a:off x="4343400" y="2666880"/>
            <a:ext cx="1676520" cy="19051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3"/>
          <p:cNvSpPr/>
          <p:nvPr/>
        </p:nvSpPr>
        <p:spPr>
          <a:xfrm>
            <a:off x="4419720" y="4572000"/>
            <a:ext cx="18619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B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lihts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d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rupes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, ühendab kõik kok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4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saadab arvutile X teksti, siis ta saadab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ÕIGI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sed ignoreeriv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5"/>
          <p:cNvSpPr/>
          <p:nvPr/>
        </p:nvSpPr>
        <p:spPr>
          <a:xfrm>
            <a:off x="2185560" y="25560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46"/>
          <p:cNvSpPr/>
          <p:nvPr/>
        </p:nvSpPr>
        <p:spPr>
          <a:xfrm>
            <a:off x="5551200" y="12952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47"/>
          <p:cNvSpPr/>
          <p:nvPr/>
        </p:nvSpPr>
        <p:spPr>
          <a:xfrm>
            <a:off x="6474960" y="4772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EU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Extended User Interf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endab kohtvõrgu liikluses TCP+I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Optimiseeritud väikeste kohtvõrkude jao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Kiir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Hea veakindl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ole marsruuditav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alju liiklust üldaadress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(Network Basic Input/Output System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seansi ja datagrammi tüüpi ühend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ub nimeteen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sina nimi kuni 15 tähte, hierarhiat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etodid nime teisendamiseks IP aadressiks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b WINS serverilt (nimede ja IP aadrsside andmebaas)</a:t>
            </a:r>
            <a:r>
              <a:rPr b="0" lang="ar-SA" sz="16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mine üldlevi aadress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MHOSTS ja HOSTS fa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 pärin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94DE90-345A-4E01-8503-559A6DA433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ld Bus Top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1981080" y="2743200"/>
          <a:ext cx="5400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5400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Base5 and 10Base2 Ethernets has a bus top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2D5B8-26DA-4751-B3C8-F232C17E5B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rting with 10Base-T, stations are connected to a hub in a star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urrent Star Top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1455840" y="2514600"/>
          <a:ext cx="540216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2514600"/>
                    <a:ext cx="540216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3513240" y="43434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2876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thernet frame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57120" y="2571840"/>
            <a:ext cx="82296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eambl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7 octets of 10101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-of-Frame-Delimiter  1 octet of 1010101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C destination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6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C sourc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6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thertype/Length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2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yload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46-1500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C32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4 oct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Postamble                1 octet of 01111110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rame gap            960 ns (100M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512200" cy="1500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nter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ternet seob erinevaid kohtvõrk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htvõrgus reeglina etherne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ri kohtvõrkude sidumiseks antakse igale masinale unikaalne nn IP aadress: tüüpiliselt neli bait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P aadress ja muu vajalik info on etherneti paketi sisu üks os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uter on masin, mis ühendatud korraga mitme kohtvõrguga ja mis otsustab, kuhu kohtvõrku pakett edasi sa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</cp:lastModifiedBy>
  <dcterms:modified xsi:type="dcterms:W3CDTF">2008-11-04T20:47:34Z</dcterms:modified>
  <cp:revision>8</cp:revision>
  <dc:subject/>
  <dc:title> </dc:title>
</cp:coreProperties>
</file>